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7.png" ContentType="image/png"/>
  <Override PartName="/ppt/media/image34.jpeg" ContentType="image/jpeg"/>
  <Override PartName="/ppt/media/image5.png" ContentType="image/png"/>
  <Override PartName="/ppt/media/image35.jpeg" ContentType="image/jpeg"/>
  <Override PartName="/ppt/media/image12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33.jpeg" ContentType="image/jpeg"/>
  <Override PartName="/ppt/media/image27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11.jpeg" ContentType="image/jpeg"/>
  <Override PartName="/ppt/media/image9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76AD-2767-4A88-8817-2D37F81DA4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бы поменять цвет ф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йдите в режим редактирования макетов (вклайдка Вид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манда Образец слайд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Щелкните синий фон, чтобы выделить 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ерите вкладку Формат и выберите желаемый цвет в раскравающемся списке Заливка фиг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те эту операцию для 2 макетов: макета основного слайда (самый верхний в списке макетов) и титульного макета (второй верхний маке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Щелкните Закрыть режим образца в группе Закрыть на вкладке Образец слайдов (первая вклад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бы поменять снежинку на другой рису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йдите в режим редактирования макетов (Вид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ец слайд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Щелкните рисунок с картинкой и нажмите кнопк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чтобы удал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кладке Вставка выберите нужный инструмент, чтобы вставить картинку из файла, клип и коллекции картинок или другой эле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Щелкните Закрыть режим образца в группе Закрыть на вкладке Образец слайдов (первая вклад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135E-4F04-48C1-9990-08D4C77CAC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E763-4B4A-4A0B-9821-EB7BF33E6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D776-3DAF-4F7D-B21C-1C895EA1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BAF6-4E9A-472E-B33E-9B4B06616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3E29-1022-491C-8A43-D06D3CADD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10F2-DDD7-412F-87D3-977299283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8235C-D332-4605-9B08-ED422D26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7859-4489-4F79-AF4B-99BD2A74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DE754-E05E-4178-BF25-9C8C4E30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2FE1-F83F-450E-A108-2B048202D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1FCC-CC01-4D51-89E2-4677C4F3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6332-D1DC-4FC8-B15B-E07B148B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7CC0-AC91-4A84-877E-825CA2CA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31A6-96FC-4635-BDFB-4BA51584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E6DB-DE56-48CE-9151-D3C61D87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3CF3-6EED-41D7-87B5-B55592BC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B0A2-D015-4853-9FAB-EBDA89BF6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487A-89C1-48C5-8AE0-E50636CBD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8993-BB3E-485E-8FCF-37C4A034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42E2-55F4-49F1-AE22-BC943051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C289-9FA7-4BB8-89A8-DFC7DC59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752A-0866-4A11-8D64-CA0A7786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DC0D-D4FB-43BB-90D7-93E49A00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7EFD-B729-4077-944D-B5AC19D3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AFFC-406A-4E85-A68C-98791383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-285840"/>
            <a:ext cx="9144000" cy="17859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30F7-E4AC-47C6-BF1D-6A31BEA4EC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Группа 7"/>
          <p:cNvGrpSpPr/>
          <p:nvPr/>
        </p:nvGrpSpPr>
        <p:grpSpPr>
          <a:xfrm>
            <a:off x="7786800" y="928800"/>
            <a:ext cx="785880" cy="811080"/>
            <a:chOff x="7786800" y="928800"/>
            <a:chExt cx="785880" cy="811080"/>
          </a:xfrm>
        </p:grpSpPr>
        <p:sp>
          <p:nvSpPr>
            <p:cNvPr id="7" name="Freeform 22"/>
            <p:cNvSpPr/>
            <p:nvPr/>
          </p:nvSpPr>
          <p:spPr>
            <a:xfrm>
              <a:off x="7788600" y="936720"/>
              <a:ext cx="784080" cy="788760"/>
            </a:xfrm>
            <a:custGeom>
              <a:avLst/>
              <a:gdLst>
                <a:gd name="textAreaLeft" fmla="*/ 0 w 784080"/>
                <a:gd name="textAreaRight" fmla="*/ 784440 w 78408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872" h="888">
                  <a:moveTo>
                    <a:pt x="730" y="774"/>
                  </a:moveTo>
                  <a:lnTo>
                    <a:pt x="692" y="806"/>
                  </a:lnTo>
                  <a:lnTo>
                    <a:pt x="600" y="688"/>
                  </a:lnTo>
                  <a:lnTo>
                    <a:pt x="560" y="826"/>
                  </a:lnTo>
                  <a:lnTo>
                    <a:pt x="524" y="804"/>
                  </a:lnTo>
                  <a:lnTo>
                    <a:pt x="572" y="650"/>
                  </a:lnTo>
                  <a:lnTo>
                    <a:pt x="442" y="484"/>
                  </a:lnTo>
                  <a:lnTo>
                    <a:pt x="370" y="692"/>
                  </a:lnTo>
                  <a:lnTo>
                    <a:pt x="460" y="820"/>
                  </a:lnTo>
                  <a:lnTo>
                    <a:pt x="432" y="852"/>
                  </a:lnTo>
                  <a:lnTo>
                    <a:pt x="354" y="740"/>
                  </a:lnTo>
                  <a:lnTo>
                    <a:pt x="302" y="888"/>
                  </a:lnTo>
                  <a:lnTo>
                    <a:pt x="256" y="872"/>
                  </a:lnTo>
                  <a:lnTo>
                    <a:pt x="312" y="724"/>
                  </a:lnTo>
                  <a:lnTo>
                    <a:pt x="178" y="762"/>
                  </a:lnTo>
                  <a:lnTo>
                    <a:pt x="178" y="718"/>
                  </a:lnTo>
                  <a:lnTo>
                    <a:pt x="328" y="678"/>
                  </a:lnTo>
                  <a:lnTo>
                    <a:pt x="406" y="472"/>
                  </a:lnTo>
                  <a:lnTo>
                    <a:pt x="200" y="518"/>
                  </a:lnTo>
                  <a:lnTo>
                    <a:pt x="140" y="666"/>
                  </a:lnTo>
                  <a:lnTo>
                    <a:pt x="98" y="660"/>
                  </a:lnTo>
                  <a:lnTo>
                    <a:pt x="154" y="528"/>
                  </a:lnTo>
                  <a:lnTo>
                    <a:pt x="8" y="560"/>
                  </a:lnTo>
                  <a:lnTo>
                    <a:pt x="0" y="510"/>
                  </a:lnTo>
                  <a:lnTo>
                    <a:pt x="148" y="480"/>
                  </a:lnTo>
                  <a:lnTo>
                    <a:pt x="54" y="380"/>
                  </a:lnTo>
                  <a:lnTo>
                    <a:pt x="90" y="356"/>
                  </a:lnTo>
                  <a:lnTo>
                    <a:pt x="194" y="472"/>
                  </a:lnTo>
                  <a:lnTo>
                    <a:pt x="400" y="430"/>
                  </a:lnTo>
                  <a:lnTo>
                    <a:pt x="268" y="268"/>
                  </a:lnTo>
                  <a:lnTo>
                    <a:pt x="114" y="292"/>
                  </a:lnTo>
                  <a:lnTo>
                    <a:pt x="100" y="252"/>
                  </a:lnTo>
                  <a:lnTo>
                    <a:pt x="236" y="232"/>
                  </a:lnTo>
                  <a:lnTo>
                    <a:pt x="142" y="116"/>
                  </a:lnTo>
                  <a:lnTo>
                    <a:pt x="180" y="82"/>
                  </a:lnTo>
                  <a:lnTo>
                    <a:pt x="272" y="200"/>
                  </a:lnTo>
                  <a:lnTo>
                    <a:pt x="312" y="62"/>
                  </a:lnTo>
                  <a:lnTo>
                    <a:pt x="348" y="84"/>
                  </a:lnTo>
                  <a:lnTo>
                    <a:pt x="302" y="238"/>
                  </a:lnTo>
                  <a:lnTo>
                    <a:pt x="430" y="404"/>
                  </a:lnTo>
                  <a:lnTo>
                    <a:pt x="502" y="196"/>
                  </a:lnTo>
                  <a:lnTo>
                    <a:pt x="412" y="70"/>
                  </a:lnTo>
                  <a:lnTo>
                    <a:pt x="440" y="36"/>
                  </a:lnTo>
                  <a:lnTo>
                    <a:pt x="518" y="148"/>
                  </a:lnTo>
                  <a:lnTo>
                    <a:pt x="570" y="0"/>
                  </a:lnTo>
                  <a:lnTo>
                    <a:pt x="616" y="16"/>
                  </a:lnTo>
                  <a:lnTo>
                    <a:pt x="562" y="164"/>
                  </a:lnTo>
                  <a:lnTo>
                    <a:pt x="694" y="126"/>
                  </a:lnTo>
                  <a:lnTo>
                    <a:pt x="694" y="170"/>
                  </a:lnTo>
                  <a:lnTo>
                    <a:pt x="544" y="210"/>
                  </a:lnTo>
                  <a:lnTo>
                    <a:pt x="466" y="416"/>
                  </a:lnTo>
                  <a:lnTo>
                    <a:pt x="672" y="372"/>
                  </a:lnTo>
                  <a:lnTo>
                    <a:pt x="734" y="222"/>
                  </a:lnTo>
                  <a:lnTo>
                    <a:pt x="776" y="228"/>
                  </a:lnTo>
                  <a:lnTo>
                    <a:pt x="718" y="362"/>
                  </a:lnTo>
                  <a:lnTo>
                    <a:pt x="864" y="328"/>
                  </a:lnTo>
                  <a:lnTo>
                    <a:pt x="872" y="378"/>
                  </a:lnTo>
                  <a:lnTo>
                    <a:pt x="726" y="408"/>
                  </a:lnTo>
                  <a:lnTo>
                    <a:pt x="818" y="510"/>
                  </a:lnTo>
                  <a:lnTo>
                    <a:pt x="782" y="532"/>
                  </a:lnTo>
                  <a:lnTo>
                    <a:pt x="678" y="416"/>
                  </a:lnTo>
                  <a:lnTo>
                    <a:pt x="474" y="458"/>
                  </a:lnTo>
                  <a:lnTo>
                    <a:pt x="606" y="620"/>
                  </a:lnTo>
                  <a:lnTo>
                    <a:pt x="758" y="598"/>
                  </a:lnTo>
                  <a:lnTo>
                    <a:pt x="772" y="638"/>
                  </a:lnTo>
                  <a:lnTo>
                    <a:pt x="636" y="656"/>
                  </a:lnTo>
                  <a:lnTo>
                    <a:pt x="730" y="774"/>
                  </a:lnTo>
                  <a:close/>
                </a:path>
              </a:pathLst>
            </a:custGeom>
            <a:solidFill>
              <a:srgbClr val="ccc1da"/>
            </a:solidFill>
            <a:ln w="57240">
              <a:solidFill>
                <a:srgbClr val="ccc1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22"/>
            <p:cNvSpPr/>
            <p:nvPr/>
          </p:nvSpPr>
          <p:spPr>
            <a:xfrm>
              <a:off x="7788600" y="936720"/>
              <a:ext cx="784080" cy="788760"/>
            </a:xfrm>
            <a:custGeom>
              <a:avLst/>
              <a:gdLst>
                <a:gd name="textAreaLeft" fmla="*/ 0 w 784080"/>
                <a:gd name="textAreaRight" fmla="*/ 784440 w 78408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872" h="888">
                  <a:moveTo>
                    <a:pt x="730" y="774"/>
                  </a:moveTo>
                  <a:lnTo>
                    <a:pt x="692" y="806"/>
                  </a:lnTo>
                  <a:lnTo>
                    <a:pt x="600" y="688"/>
                  </a:lnTo>
                  <a:lnTo>
                    <a:pt x="560" y="826"/>
                  </a:lnTo>
                  <a:lnTo>
                    <a:pt x="524" y="804"/>
                  </a:lnTo>
                  <a:lnTo>
                    <a:pt x="572" y="650"/>
                  </a:lnTo>
                  <a:lnTo>
                    <a:pt x="442" y="484"/>
                  </a:lnTo>
                  <a:lnTo>
                    <a:pt x="370" y="692"/>
                  </a:lnTo>
                  <a:lnTo>
                    <a:pt x="460" y="820"/>
                  </a:lnTo>
                  <a:lnTo>
                    <a:pt x="432" y="852"/>
                  </a:lnTo>
                  <a:lnTo>
                    <a:pt x="354" y="740"/>
                  </a:lnTo>
                  <a:lnTo>
                    <a:pt x="302" y="888"/>
                  </a:lnTo>
                  <a:lnTo>
                    <a:pt x="256" y="872"/>
                  </a:lnTo>
                  <a:lnTo>
                    <a:pt x="312" y="724"/>
                  </a:lnTo>
                  <a:lnTo>
                    <a:pt x="178" y="762"/>
                  </a:lnTo>
                  <a:lnTo>
                    <a:pt x="178" y="718"/>
                  </a:lnTo>
                  <a:lnTo>
                    <a:pt x="328" y="678"/>
                  </a:lnTo>
                  <a:lnTo>
                    <a:pt x="406" y="472"/>
                  </a:lnTo>
                  <a:lnTo>
                    <a:pt x="200" y="518"/>
                  </a:lnTo>
                  <a:lnTo>
                    <a:pt x="140" y="666"/>
                  </a:lnTo>
                  <a:lnTo>
                    <a:pt x="98" y="660"/>
                  </a:lnTo>
                  <a:lnTo>
                    <a:pt x="154" y="528"/>
                  </a:lnTo>
                  <a:lnTo>
                    <a:pt x="8" y="560"/>
                  </a:lnTo>
                  <a:lnTo>
                    <a:pt x="0" y="510"/>
                  </a:lnTo>
                  <a:lnTo>
                    <a:pt x="148" y="480"/>
                  </a:lnTo>
                  <a:lnTo>
                    <a:pt x="54" y="380"/>
                  </a:lnTo>
                  <a:lnTo>
                    <a:pt x="90" y="356"/>
                  </a:lnTo>
                  <a:lnTo>
                    <a:pt x="194" y="472"/>
                  </a:lnTo>
                  <a:lnTo>
                    <a:pt x="400" y="430"/>
                  </a:lnTo>
                  <a:lnTo>
                    <a:pt x="268" y="268"/>
                  </a:lnTo>
                  <a:lnTo>
                    <a:pt x="114" y="292"/>
                  </a:lnTo>
                  <a:lnTo>
                    <a:pt x="100" y="252"/>
                  </a:lnTo>
                  <a:lnTo>
                    <a:pt x="236" y="232"/>
                  </a:lnTo>
                  <a:lnTo>
                    <a:pt x="142" y="116"/>
                  </a:lnTo>
                  <a:lnTo>
                    <a:pt x="180" y="82"/>
                  </a:lnTo>
                  <a:lnTo>
                    <a:pt x="272" y="200"/>
                  </a:lnTo>
                  <a:lnTo>
                    <a:pt x="312" y="62"/>
                  </a:lnTo>
                  <a:lnTo>
                    <a:pt x="348" y="84"/>
                  </a:lnTo>
                  <a:lnTo>
                    <a:pt x="302" y="238"/>
                  </a:lnTo>
                  <a:lnTo>
                    <a:pt x="430" y="404"/>
                  </a:lnTo>
                  <a:lnTo>
                    <a:pt x="502" y="196"/>
                  </a:lnTo>
                  <a:lnTo>
                    <a:pt x="412" y="70"/>
                  </a:lnTo>
                  <a:lnTo>
                    <a:pt x="440" y="36"/>
                  </a:lnTo>
                  <a:lnTo>
                    <a:pt x="518" y="148"/>
                  </a:lnTo>
                  <a:lnTo>
                    <a:pt x="570" y="0"/>
                  </a:lnTo>
                  <a:lnTo>
                    <a:pt x="616" y="16"/>
                  </a:lnTo>
                  <a:lnTo>
                    <a:pt x="562" y="164"/>
                  </a:lnTo>
                  <a:lnTo>
                    <a:pt x="694" y="126"/>
                  </a:lnTo>
                  <a:lnTo>
                    <a:pt x="694" y="170"/>
                  </a:lnTo>
                  <a:lnTo>
                    <a:pt x="544" y="210"/>
                  </a:lnTo>
                  <a:lnTo>
                    <a:pt x="466" y="416"/>
                  </a:lnTo>
                  <a:lnTo>
                    <a:pt x="672" y="372"/>
                  </a:lnTo>
                  <a:lnTo>
                    <a:pt x="734" y="222"/>
                  </a:lnTo>
                  <a:lnTo>
                    <a:pt x="776" y="228"/>
                  </a:lnTo>
                  <a:lnTo>
                    <a:pt x="718" y="362"/>
                  </a:lnTo>
                  <a:lnTo>
                    <a:pt x="864" y="328"/>
                  </a:lnTo>
                  <a:lnTo>
                    <a:pt x="872" y="378"/>
                  </a:lnTo>
                  <a:lnTo>
                    <a:pt x="726" y="408"/>
                  </a:lnTo>
                  <a:lnTo>
                    <a:pt x="818" y="510"/>
                  </a:lnTo>
                  <a:lnTo>
                    <a:pt x="782" y="532"/>
                  </a:lnTo>
                  <a:lnTo>
                    <a:pt x="678" y="416"/>
                  </a:lnTo>
                  <a:lnTo>
                    <a:pt x="474" y="458"/>
                  </a:lnTo>
                  <a:lnTo>
                    <a:pt x="606" y="620"/>
                  </a:lnTo>
                  <a:lnTo>
                    <a:pt x="758" y="598"/>
                  </a:lnTo>
                  <a:lnTo>
                    <a:pt x="772" y="638"/>
                  </a:lnTo>
                  <a:lnTo>
                    <a:pt x="636" y="656"/>
                  </a:lnTo>
                  <a:lnTo>
                    <a:pt x="730" y="7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" name="Freeform 21"/>
            <p:cNvGrpSpPr/>
            <p:nvPr/>
          </p:nvGrpSpPr>
          <p:grpSpPr>
            <a:xfrm>
              <a:off x="7786800" y="928800"/>
              <a:ext cx="778320" cy="811080"/>
              <a:chOff x="7786800" y="928800"/>
              <a:chExt cx="778320" cy="811080"/>
            </a:xfrm>
          </p:grpSpPr>
          <p:pic>
            <p:nvPicPr>
              <p:cNvPr id="10" name="Freeform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7786800" y="928800"/>
                <a:ext cx="778320" cy="81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>
                <a:off x="7794720" y="936720"/>
                <a:ext cx="762840" cy="79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6"/>
          <p:cNvSpPr/>
          <p:nvPr/>
        </p:nvSpPr>
        <p:spPr>
          <a:xfrm>
            <a:off x="0" y="-285840"/>
            <a:ext cx="9144000" cy="17859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Группа 7"/>
          <p:cNvGrpSpPr/>
          <p:nvPr/>
        </p:nvGrpSpPr>
        <p:grpSpPr>
          <a:xfrm>
            <a:off x="7786800" y="928800"/>
            <a:ext cx="785880" cy="811080"/>
            <a:chOff x="7786800" y="928800"/>
            <a:chExt cx="785880" cy="811080"/>
          </a:xfrm>
        </p:grpSpPr>
        <p:sp>
          <p:nvSpPr>
            <p:cNvPr id="50" name="Freeform 22"/>
            <p:cNvSpPr/>
            <p:nvPr/>
          </p:nvSpPr>
          <p:spPr>
            <a:xfrm>
              <a:off x="7788600" y="936720"/>
              <a:ext cx="784080" cy="788760"/>
            </a:xfrm>
            <a:custGeom>
              <a:avLst/>
              <a:gdLst>
                <a:gd name="textAreaLeft" fmla="*/ 0 w 784080"/>
                <a:gd name="textAreaRight" fmla="*/ 784440 w 78408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872" h="888">
                  <a:moveTo>
                    <a:pt x="730" y="774"/>
                  </a:moveTo>
                  <a:lnTo>
                    <a:pt x="692" y="806"/>
                  </a:lnTo>
                  <a:lnTo>
                    <a:pt x="600" y="688"/>
                  </a:lnTo>
                  <a:lnTo>
                    <a:pt x="560" y="826"/>
                  </a:lnTo>
                  <a:lnTo>
                    <a:pt x="524" y="804"/>
                  </a:lnTo>
                  <a:lnTo>
                    <a:pt x="572" y="650"/>
                  </a:lnTo>
                  <a:lnTo>
                    <a:pt x="442" y="484"/>
                  </a:lnTo>
                  <a:lnTo>
                    <a:pt x="370" y="692"/>
                  </a:lnTo>
                  <a:lnTo>
                    <a:pt x="460" y="820"/>
                  </a:lnTo>
                  <a:lnTo>
                    <a:pt x="432" y="852"/>
                  </a:lnTo>
                  <a:lnTo>
                    <a:pt x="354" y="740"/>
                  </a:lnTo>
                  <a:lnTo>
                    <a:pt x="302" y="888"/>
                  </a:lnTo>
                  <a:lnTo>
                    <a:pt x="256" y="872"/>
                  </a:lnTo>
                  <a:lnTo>
                    <a:pt x="312" y="724"/>
                  </a:lnTo>
                  <a:lnTo>
                    <a:pt x="178" y="762"/>
                  </a:lnTo>
                  <a:lnTo>
                    <a:pt x="178" y="718"/>
                  </a:lnTo>
                  <a:lnTo>
                    <a:pt x="328" y="678"/>
                  </a:lnTo>
                  <a:lnTo>
                    <a:pt x="406" y="472"/>
                  </a:lnTo>
                  <a:lnTo>
                    <a:pt x="200" y="518"/>
                  </a:lnTo>
                  <a:lnTo>
                    <a:pt x="140" y="666"/>
                  </a:lnTo>
                  <a:lnTo>
                    <a:pt x="98" y="660"/>
                  </a:lnTo>
                  <a:lnTo>
                    <a:pt x="154" y="528"/>
                  </a:lnTo>
                  <a:lnTo>
                    <a:pt x="8" y="560"/>
                  </a:lnTo>
                  <a:lnTo>
                    <a:pt x="0" y="510"/>
                  </a:lnTo>
                  <a:lnTo>
                    <a:pt x="148" y="480"/>
                  </a:lnTo>
                  <a:lnTo>
                    <a:pt x="54" y="380"/>
                  </a:lnTo>
                  <a:lnTo>
                    <a:pt x="90" y="356"/>
                  </a:lnTo>
                  <a:lnTo>
                    <a:pt x="194" y="472"/>
                  </a:lnTo>
                  <a:lnTo>
                    <a:pt x="400" y="430"/>
                  </a:lnTo>
                  <a:lnTo>
                    <a:pt x="268" y="268"/>
                  </a:lnTo>
                  <a:lnTo>
                    <a:pt x="114" y="292"/>
                  </a:lnTo>
                  <a:lnTo>
                    <a:pt x="100" y="252"/>
                  </a:lnTo>
                  <a:lnTo>
                    <a:pt x="236" y="232"/>
                  </a:lnTo>
                  <a:lnTo>
                    <a:pt x="142" y="116"/>
                  </a:lnTo>
                  <a:lnTo>
                    <a:pt x="180" y="82"/>
                  </a:lnTo>
                  <a:lnTo>
                    <a:pt x="272" y="200"/>
                  </a:lnTo>
                  <a:lnTo>
                    <a:pt x="312" y="62"/>
                  </a:lnTo>
                  <a:lnTo>
                    <a:pt x="348" y="84"/>
                  </a:lnTo>
                  <a:lnTo>
                    <a:pt x="302" y="238"/>
                  </a:lnTo>
                  <a:lnTo>
                    <a:pt x="430" y="404"/>
                  </a:lnTo>
                  <a:lnTo>
                    <a:pt x="502" y="196"/>
                  </a:lnTo>
                  <a:lnTo>
                    <a:pt x="412" y="70"/>
                  </a:lnTo>
                  <a:lnTo>
                    <a:pt x="440" y="36"/>
                  </a:lnTo>
                  <a:lnTo>
                    <a:pt x="518" y="148"/>
                  </a:lnTo>
                  <a:lnTo>
                    <a:pt x="570" y="0"/>
                  </a:lnTo>
                  <a:lnTo>
                    <a:pt x="616" y="16"/>
                  </a:lnTo>
                  <a:lnTo>
                    <a:pt x="562" y="164"/>
                  </a:lnTo>
                  <a:lnTo>
                    <a:pt x="694" y="126"/>
                  </a:lnTo>
                  <a:lnTo>
                    <a:pt x="694" y="170"/>
                  </a:lnTo>
                  <a:lnTo>
                    <a:pt x="544" y="210"/>
                  </a:lnTo>
                  <a:lnTo>
                    <a:pt x="466" y="416"/>
                  </a:lnTo>
                  <a:lnTo>
                    <a:pt x="672" y="372"/>
                  </a:lnTo>
                  <a:lnTo>
                    <a:pt x="734" y="222"/>
                  </a:lnTo>
                  <a:lnTo>
                    <a:pt x="776" y="228"/>
                  </a:lnTo>
                  <a:lnTo>
                    <a:pt x="718" y="362"/>
                  </a:lnTo>
                  <a:lnTo>
                    <a:pt x="864" y="328"/>
                  </a:lnTo>
                  <a:lnTo>
                    <a:pt x="872" y="378"/>
                  </a:lnTo>
                  <a:lnTo>
                    <a:pt x="726" y="408"/>
                  </a:lnTo>
                  <a:lnTo>
                    <a:pt x="818" y="510"/>
                  </a:lnTo>
                  <a:lnTo>
                    <a:pt x="782" y="532"/>
                  </a:lnTo>
                  <a:lnTo>
                    <a:pt x="678" y="416"/>
                  </a:lnTo>
                  <a:lnTo>
                    <a:pt x="474" y="458"/>
                  </a:lnTo>
                  <a:lnTo>
                    <a:pt x="606" y="620"/>
                  </a:lnTo>
                  <a:lnTo>
                    <a:pt x="758" y="598"/>
                  </a:lnTo>
                  <a:lnTo>
                    <a:pt x="772" y="638"/>
                  </a:lnTo>
                  <a:lnTo>
                    <a:pt x="636" y="656"/>
                  </a:lnTo>
                  <a:lnTo>
                    <a:pt x="730" y="774"/>
                  </a:lnTo>
                  <a:close/>
                </a:path>
              </a:pathLst>
            </a:custGeom>
            <a:solidFill>
              <a:srgbClr val="ccc1da"/>
            </a:solidFill>
            <a:ln w="57240">
              <a:solidFill>
                <a:srgbClr val="ccc1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22"/>
            <p:cNvSpPr/>
            <p:nvPr/>
          </p:nvSpPr>
          <p:spPr>
            <a:xfrm>
              <a:off x="7788600" y="936720"/>
              <a:ext cx="784080" cy="788760"/>
            </a:xfrm>
            <a:custGeom>
              <a:avLst/>
              <a:gdLst>
                <a:gd name="textAreaLeft" fmla="*/ 0 w 784080"/>
                <a:gd name="textAreaRight" fmla="*/ 784440 w 78408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872" h="888">
                  <a:moveTo>
                    <a:pt x="730" y="774"/>
                  </a:moveTo>
                  <a:lnTo>
                    <a:pt x="692" y="806"/>
                  </a:lnTo>
                  <a:lnTo>
                    <a:pt x="600" y="688"/>
                  </a:lnTo>
                  <a:lnTo>
                    <a:pt x="560" y="826"/>
                  </a:lnTo>
                  <a:lnTo>
                    <a:pt x="524" y="804"/>
                  </a:lnTo>
                  <a:lnTo>
                    <a:pt x="572" y="650"/>
                  </a:lnTo>
                  <a:lnTo>
                    <a:pt x="442" y="484"/>
                  </a:lnTo>
                  <a:lnTo>
                    <a:pt x="370" y="692"/>
                  </a:lnTo>
                  <a:lnTo>
                    <a:pt x="460" y="820"/>
                  </a:lnTo>
                  <a:lnTo>
                    <a:pt x="432" y="852"/>
                  </a:lnTo>
                  <a:lnTo>
                    <a:pt x="354" y="740"/>
                  </a:lnTo>
                  <a:lnTo>
                    <a:pt x="302" y="888"/>
                  </a:lnTo>
                  <a:lnTo>
                    <a:pt x="256" y="872"/>
                  </a:lnTo>
                  <a:lnTo>
                    <a:pt x="312" y="724"/>
                  </a:lnTo>
                  <a:lnTo>
                    <a:pt x="178" y="762"/>
                  </a:lnTo>
                  <a:lnTo>
                    <a:pt x="178" y="718"/>
                  </a:lnTo>
                  <a:lnTo>
                    <a:pt x="328" y="678"/>
                  </a:lnTo>
                  <a:lnTo>
                    <a:pt x="406" y="472"/>
                  </a:lnTo>
                  <a:lnTo>
                    <a:pt x="200" y="518"/>
                  </a:lnTo>
                  <a:lnTo>
                    <a:pt x="140" y="666"/>
                  </a:lnTo>
                  <a:lnTo>
                    <a:pt x="98" y="660"/>
                  </a:lnTo>
                  <a:lnTo>
                    <a:pt x="154" y="528"/>
                  </a:lnTo>
                  <a:lnTo>
                    <a:pt x="8" y="560"/>
                  </a:lnTo>
                  <a:lnTo>
                    <a:pt x="0" y="510"/>
                  </a:lnTo>
                  <a:lnTo>
                    <a:pt x="148" y="480"/>
                  </a:lnTo>
                  <a:lnTo>
                    <a:pt x="54" y="380"/>
                  </a:lnTo>
                  <a:lnTo>
                    <a:pt x="90" y="356"/>
                  </a:lnTo>
                  <a:lnTo>
                    <a:pt x="194" y="472"/>
                  </a:lnTo>
                  <a:lnTo>
                    <a:pt x="400" y="430"/>
                  </a:lnTo>
                  <a:lnTo>
                    <a:pt x="268" y="268"/>
                  </a:lnTo>
                  <a:lnTo>
                    <a:pt x="114" y="292"/>
                  </a:lnTo>
                  <a:lnTo>
                    <a:pt x="100" y="252"/>
                  </a:lnTo>
                  <a:lnTo>
                    <a:pt x="236" y="232"/>
                  </a:lnTo>
                  <a:lnTo>
                    <a:pt x="142" y="116"/>
                  </a:lnTo>
                  <a:lnTo>
                    <a:pt x="180" y="82"/>
                  </a:lnTo>
                  <a:lnTo>
                    <a:pt x="272" y="200"/>
                  </a:lnTo>
                  <a:lnTo>
                    <a:pt x="312" y="62"/>
                  </a:lnTo>
                  <a:lnTo>
                    <a:pt x="348" y="84"/>
                  </a:lnTo>
                  <a:lnTo>
                    <a:pt x="302" y="238"/>
                  </a:lnTo>
                  <a:lnTo>
                    <a:pt x="430" y="404"/>
                  </a:lnTo>
                  <a:lnTo>
                    <a:pt x="502" y="196"/>
                  </a:lnTo>
                  <a:lnTo>
                    <a:pt x="412" y="70"/>
                  </a:lnTo>
                  <a:lnTo>
                    <a:pt x="440" y="36"/>
                  </a:lnTo>
                  <a:lnTo>
                    <a:pt x="518" y="148"/>
                  </a:lnTo>
                  <a:lnTo>
                    <a:pt x="570" y="0"/>
                  </a:lnTo>
                  <a:lnTo>
                    <a:pt x="616" y="16"/>
                  </a:lnTo>
                  <a:lnTo>
                    <a:pt x="562" y="164"/>
                  </a:lnTo>
                  <a:lnTo>
                    <a:pt x="694" y="126"/>
                  </a:lnTo>
                  <a:lnTo>
                    <a:pt x="694" y="170"/>
                  </a:lnTo>
                  <a:lnTo>
                    <a:pt x="544" y="210"/>
                  </a:lnTo>
                  <a:lnTo>
                    <a:pt x="466" y="416"/>
                  </a:lnTo>
                  <a:lnTo>
                    <a:pt x="672" y="372"/>
                  </a:lnTo>
                  <a:lnTo>
                    <a:pt x="734" y="222"/>
                  </a:lnTo>
                  <a:lnTo>
                    <a:pt x="776" y="228"/>
                  </a:lnTo>
                  <a:lnTo>
                    <a:pt x="718" y="362"/>
                  </a:lnTo>
                  <a:lnTo>
                    <a:pt x="864" y="328"/>
                  </a:lnTo>
                  <a:lnTo>
                    <a:pt x="872" y="378"/>
                  </a:lnTo>
                  <a:lnTo>
                    <a:pt x="726" y="408"/>
                  </a:lnTo>
                  <a:lnTo>
                    <a:pt x="818" y="510"/>
                  </a:lnTo>
                  <a:lnTo>
                    <a:pt x="782" y="532"/>
                  </a:lnTo>
                  <a:lnTo>
                    <a:pt x="678" y="416"/>
                  </a:lnTo>
                  <a:lnTo>
                    <a:pt x="474" y="458"/>
                  </a:lnTo>
                  <a:lnTo>
                    <a:pt x="606" y="620"/>
                  </a:lnTo>
                  <a:lnTo>
                    <a:pt x="758" y="598"/>
                  </a:lnTo>
                  <a:lnTo>
                    <a:pt x="772" y="638"/>
                  </a:lnTo>
                  <a:lnTo>
                    <a:pt x="636" y="656"/>
                  </a:lnTo>
                  <a:lnTo>
                    <a:pt x="730" y="7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Freeform 21"/>
            <p:cNvGrpSpPr/>
            <p:nvPr/>
          </p:nvGrpSpPr>
          <p:grpSpPr>
            <a:xfrm>
              <a:off x="7786800" y="928800"/>
              <a:ext cx="778320" cy="811080"/>
              <a:chOff x="7786800" y="928800"/>
              <a:chExt cx="778320" cy="811080"/>
            </a:xfrm>
          </p:grpSpPr>
          <p:pic>
            <p:nvPicPr>
              <p:cNvPr id="53" name="Freeform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7786800" y="928800"/>
                <a:ext cx="778320" cy="81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7794720" y="936720"/>
                <a:ext cx="762840" cy="79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Прямоугольник 11"/>
          <p:cNvSpPr/>
          <p:nvPr/>
        </p:nvSpPr>
        <p:spPr>
          <a:xfrm>
            <a:off x="0" y="-285840"/>
            <a:ext cx="9144000" cy="48578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3"/>
          <p:cNvSpPr/>
          <p:nvPr/>
        </p:nvSpPr>
        <p:spPr>
          <a:xfrm>
            <a:off x="8091360" y="1057320"/>
            <a:ext cx="1219320" cy="9216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768" h="58">
                <a:moveTo>
                  <a:pt x="0" y="58"/>
                </a:moveTo>
                <a:lnTo>
                  <a:pt x="0" y="58"/>
                </a:lnTo>
                <a:lnTo>
                  <a:pt x="0" y="58"/>
                </a:lnTo>
                <a:lnTo>
                  <a:pt x="0" y="58"/>
                </a:lnTo>
                <a:lnTo>
                  <a:pt x="0" y="58"/>
                </a:lnTo>
                <a:lnTo>
                  <a:pt x="0" y="58"/>
                </a:lnTo>
                <a:lnTo>
                  <a:pt x="0" y="58"/>
                </a:lnTo>
                <a:lnTo>
                  <a:pt x="0" y="58"/>
                </a:lnTo>
                <a:close/>
                <a:moveTo>
                  <a:pt x="768" y="0"/>
                </a:moveTo>
                <a:lnTo>
                  <a:pt x="768" y="0"/>
                </a:lnTo>
                <a:lnTo>
                  <a:pt x="768" y="0"/>
                </a:lnTo>
                <a:lnTo>
                  <a:pt x="768" y="0"/>
                </a:lnTo>
                <a:lnTo>
                  <a:pt x="768" y="0"/>
                </a:lnTo>
                <a:lnTo>
                  <a:pt x="768" y="0"/>
                </a:lnTo>
                <a:lnTo>
                  <a:pt x="768" y="0"/>
                </a:lnTo>
                <a:lnTo>
                  <a:pt x="768" y="0"/>
                </a:lnTo>
                <a:close/>
                <a:moveTo>
                  <a:pt x="756" y="18"/>
                </a:moveTo>
                <a:lnTo>
                  <a:pt x="756" y="18"/>
                </a:lnTo>
                <a:lnTo>
                  <a:pt x="756" y="18"/>
                </a:lnTo>
                <a:lnTo>
                  <a:pt x="756" y="18"/>
                </a:lnTo>
                <a:lnTo>
                  <a:pt x="754" y="20"/>
                </a:lnTo>
                <a:lnTo>
                  <a:pt x="754" y="20"/>
                </a:lnTo>
                <a:lnTo>
                  <a:pt x="756" y="18"/>
                </a:lnTo>
                <a:lnTo>
                  <a:pt x="756" y="18"/>
                </a:lnTo>
                <a:close/>
              </a:path>
            </a:pathLst>
          </a:custGeom>
          <a:solidFill>
            <a:srgbClr val="fcde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Группа 47"/>
          <p:cNvGrpSpPr/>
          <p:nvPr/>
        </p:nvGrpSpPr>
        <p:grpSpPr>
          <a:xfrm>
            <a:off x="714240" y="3571920"/>
            <a:ext cx="1384560" cy="1428840"/>
            <a:chOff x="714240" y="3571920"/>
            <a:chExt cx="1384560" cy="1428840"/>
          </a:xfrm>
        </p:grpSpPr>
        <p:sp>
          <p:nvSpPr>
            <p:cNvPr id="58" name="Freeform 22"/>
            <p:cNvSpPr/>
            <p:nvPr/>
          </p:nvSpPr>
          <p:spPr>
            <a:xfrm>
              <a:off x="714240" y="3577320"/>
              <a:ext cx="1384560" cy="1400400"/>
            </a:xfrm>
            <a:custGeom>
              <a:avLst/>
              <a:gdLst>
                <a:gd name="textAreaLeft" fmla="*/ 0 w 1384560"/>
                <a:gd name="textAreaRight" fmla="*/ 1384920 w 1384560"/>
                <a:gd name="textAreaTop" fmla="*/ 0 h 1400400"/>
                <a:gd name="textAreaBottom" fmla="*/ 1400760 h 1400400"/>
              </a:gdLst>
              <a:ahLst/>
              <a:rect l="textAreaLeft" t="textAreaTop" r="textAreaRight" b="textAreaBottom"/>
              <a:pathLst>
                <a:path w="872" h="888">
                  <a:moveTo>
                    <a:pt x="730" y="774"/>
                  </a:moveTo>
                  <a:lnTo>
                    <a:pt x="692" y="806"/>
                  </a:lnTo>
                  <a:lnTo>
                    <a:pt x="600" y="688"/>
                  </a:lnTo>
                  <a:lnTo>
                    <a:pt x="560" y="826"/>
                  </a:lnTo>
                  <a:lnTo>
                    <a:pt x="524" y="804"/>
                  </a:lnTo>
                  <a:lnTo>
                    <a:pt x="572" y="650"/>
                  </a:lnTo>
                  <a:lnTo>
                    <a:pt x="442" y="484"/>
                  </a:lnTo>
                  <a:lnTo>
                    <a:pt x="370" y="692"/>
                  </a:lnTo>
                  <a:lnTo>
                    <a:pt x="460" y="820"/>
                  </a:lnTo>
                  <a:lnTo>
                    <a:pt x="432" y="852"/>
                  </a:lnTo>
                  <a:lnTo>
                    <a:pt x="354" y="740"/>
                  </a:lnTo>
                  <a:lnTo>
                    <a:pt x="302" y="888"/>
                  </a:lnTo>
                  <a:lnTo>
                    <a:pt x="256" y="872"/>
                  </a:lnTo>
                  <a:lnTo>
                    <a:pt x="312" y="724"/>
                  </a:lnTo>
                  <a:lnTo>
                    <a:pt x="178" y="762"/>
                  </a:lnTo>
                  <a:lnTo>
                    <a:pt x="178" y="718"/>
                  </a:lnTo>
                  <a:lnTo>
                    <a:pt x="328" y="678"/>
                  </a:lnTo>
                  <a:lnTo>
                    <a:pt x="406" y="472"/>
                  </a:lnTo>
                  <a:lnTo>
                    <a:pt x="200" y="518"/>
                  </a:lnTo>
                  <a:lnTo>
                    <a:pt x="140" y="666"/>
                  </a:lnTo>
                  <a:lnTo>
                    <a:pt x="98" y="660"/>
                  </a:lnTo>
                  <a:lnTo>
                    <a:pt x="154" y="528"/>
                  </a:lnTo>
                  <a:lnTo>
                    <a:pt x="8" y="560"/>
                  </a:lnTo>
                  <a:lnTo>
                    <a:pt x="0" y="510"/>
                  </a:lnTo>
                  <a:lnTo>
                    <a:pt x="148" y="480"/>
                  </a:lnTo>
                  <a:lnTo>
                    <a:pt x="54" y="380"/>
                  </a:lnTo>
                  <a:lnTo>
                    <a:pt x="90" y="356"/>
                  </a:lnTo>
                  <a:lnTo>
                    <a:pt x="194" y="472"/>
                  </a:lnTo>
                  <a:lnTo>
                    <a:pt x="400" y="430"/>
                  </a:lnTo>
                  <a:lnTo>
                    <a:pt x="268" y="268"/>
                  </a:lnTo>
                  <a:lnTo>
                    <a:pt x="114" y="292"/>
                  </a:lnTo>
                  <a:lnTo>
                    <a:pt x="100" y="252"/>
                  </a:lnTo>
                  <a:lnTo>
                    <a:pt x="236" y="232"/>
                  </a:lnTo>
                  <a:lnTo>
                    <a:pt x="142" y="116"/>
                  </a:lnTo>
                  <a:lnTo>
                    <a:pt x="180" y="82"/>
                  </a:lnTo>
                  <a:lnTo>
                    <a:pt x="272" y="200"/>
                  </a:lnTo>
                  <a:lnTo>
                    <a:pt x="312" y="62"/>
                  </a:lnTo>
                  <a:lnTo>
                    <a:pt x="348" y="84"/>
                  </a:lnTo>
                  <a:lnTo>
                    <a:pt x="302" y="238"/>
                  </a:lnTo>
                  <a:lnTo>
                    <a:pt x="430" y="404"/>
                  </a:lnTo>
                  <a:lnTo>
                    <a:pt x="502" y="196"/>
                  </a:lnTo>
                  <a:lnTo>
                    <a:pt x="412" y="70"/>
                  </a:lnTo>
                  <a:lnTo>
                    <a:pt x="440" y="36"/>
                  </a:lnTo>
                  <a:lnTo>
                    <a:pt x="518" y="148"/>
                  </a:lnTo>
                  <a:lnTo>
                    <a:pt x="570" y="0"/>
                  </a:lnTo>
                  <a:lnTo>
                    <a:pt x="616" y="16"/>
                  </a:lnTo>
                  <a:lnTo>
                    <a:pt x="562" y="164"/>
                  </a:lnTo>
                  <a:lnTo>
                    <a:pt x="694" y="126"/>
                  </a:lnTo>
                  <a:lnTo>
                    <a:pt x="694" y="170"/>
                  </a:lnTo>
                  <a:lnTo>
                    <a:pt x="544" y="210"/>
                  </a:lnTo>
                  <a:lnTo>
                    <a:pt x="466" y="416"/>
                  </a:lnTo>
                  <a:lnTo>
                    <a:pt x="672" y="372"/>
                  </a:lnTo>
                  <a:lnTo>
                    <a:pt x="734" y="222"/>
                  </a:lnTo>
                  <a:lnTo>
                    <a:pt x="776" y="228"/>
                  </a:lnTo>
                  <a:lnTo>
                    <a:pt x="718" y="362"/>
                  </a:lnTo>
                  <a:lnTo>
                    <a:pt x="864" y="328"/>
                  </a:lnTo>
                  <a:lnTo>
                    <a:pt x="872" y="378"/>
                  </a:lnTo>
                  <a:lnTo>
                    <a:pt x="726" y="408"/>
                  </a:lnTo>
                  <a:lnTo>
                    <a:pt x="818" y="510"/>
                  </a:lnTo>
                  <a:lnTo>
                    <a:pt x="782" y="532"/>
                  </a:lnTo>
                  <a:lnTo>
                    <a:pt x="678" y="416"/>
                  </a:lnTo>
                  <a:lnTo>
                    <a:pt x="474" y="458"/>
                  </a:lnTo>
                  <a:lnTo>
                    <a:pt x="606" y="620"/>
                  </a:lnTo>
                  <a:lnTo>
                    <a:pt x="758" y="598"/>
                  </a:lnTo>
                  <a:lnTo>
                    <a:pt x="772" y="638"/>
                  </a:lnTo>
                  <a:lnTo>
                    <a:pt x="636" y="656"/>
                  </a:lnTo>
                  <a:lnTo>
                    <a:pt x="730" y="774"/>
                  </a:lnTo>
                  <a:close/>
                </a:path>
              </a:pathLst>
            </a:custGeom>
            <a:solidFill>
              <a:srgbClr val="ccc1da"/>
            </a:solidFill>
            <a:ln w="57240">
              <a:solidFill>
                <a:srgbClr val="ccc1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714240" y="3577320"/>
              <a:ext cx="1384560" cy="1400400"/>
            </a:xfrm>
            <a:custGeom>
              <a:avLst/>
              <a:gdLst>
                <a:gd name="textAreaLeft" fmla="*/ 0 w 1384560"/>
                <a:gd name="textAreaRight" fmla="*/ 1384920 w 1384560"/>
                <a:gd name="textAreaTop" fmla="*/ 0 h 1400400"/>
                <a:gd name="textAreaBottom" fmla="*/ 1400760 h 1400400"/>
              </a:gdLst>
              <a:ahLst/>
              <a:rect l="textAreaLeft" t="textAreaTop" r="textAreaRight" b="textAreaBottom"/>
              <a:pathLst>
                <a:path w="872" h="888">
                  <a:moveTo>
                    <a:pt x="730" y="774"/>
                  </a:moveTo>
                  <a:lnTo>
                    <a:pt x="692" y="806"/>
                  </a:lnTo>
                  <a:lnTo>
                    <a:pt x="600" y="688"/>
                  </a:lnTo>
                  <a:lnTo>
                    <a:pt x="560" y="826"/>
                  </a:lnTo>
                  <a:lnTo>
                    <a:pt x="524" y="804"/>
                  </a:lnTo>
                  <a:lnTo>
                    <a:pt x="572" y="650"/>
                  </a:lnTo>
                  <a:lnTo>
                    <a:pt x="442" y="484"/>
                  </a:lnTo>
                  <a:lnTo>
                    <a:pt x="370" y="692"/>
                  </a:lnTo>
                  <a:lnTo>
                    <a:pt x="460" y="820"/>
                  </a:lnTo>
                  <a:lnTo>
                    <a:pt x="432" y="852"/>
                  </a:lnTo>
                  <a:lnTo>
                    <a:pt x="354" y="740"/>
                  </a:lnTo>
                  <a:lnTo>
                    <a:pt x="302" y="888"/>
                  </a:lnTo>
                  <a:lnTo>
                    <a:pt x="256" y="872"/>
                  </a:lnTo>
                  <a:lnTo>
                    <a:pt x="312" y="724"/>
                  </a:lnTo>
                  <a:lnTo>
                    <a:pt x="178" y="762"/>
                  </a:lnTo>
                  <a:lnTo>
                    <a:pt x="178" y="718"/>
                  </a:lnTo>
                  <a:lnTo>
                    <a:pt x="328" y="678"/>
                  </a:lnTo>
                  <a:lnTo>
                    <a:pt x="406" y="472"/>
                  </a:lnTo>
                  <a:lnTo>
                    <a:pt x="200" y="518"/>
                  </a:lnTo>
                  <a:lnTo>
                    <a:pt x="140" y="666"/>
                  </a:lnTo>
                  <a:lnTo>
                    <a:pt x="98" y="660"/>
                  </a:lnTo>
                  <a:lnTo>
                    <a:pt x="154" y="528"/>
                  </a:lnTo>
                  <a:lnTo>
                    <a:pt x="8" y="560"/>
                  </a:lnTo>
                  <a:lnTo>
                    <a:pt x="0" y="510"/>
                  </a:lnTo>
                  <a:lnTo>
                    <a:pt x="148" y="480"/>
                  </a:lnTo>
                  <a:lnTo>
                    <a:pt x="54" y="380"/>
                  </a:lnTo>
                  <a:lnTo>
                    <a:pt x="90" y="356"/>
                  </a:lnTo>
                  <a:lnTo>
                    <a:pt x="194" y="472"/>
                  </a:lnTo>
                  <a:lnTo>
                    <a:pt x="400" y="430"/>
                  </a:lnTo>
                  <a:lnTo>
                    <a:pt x="268" y="268"/>
                  </a:lnTo>
                  <a:lnTo>
                    <a:pt x="114" y="292"/>
                  </a:lnTo>
                  <a:lnTo>
                    <a:pt x="100" y="252"/>
                  </a:lnTo>
                  <a:lnTo>
                    <a:pt x="236" y="232"/>
                  </a:lnTo>
                  <a:lnTo>
                    <a:pt x="142" y="116"/>
                  </a:lnTo>
                  <a:lnTo>
                    <a:pt x="180" y="82"/>
                  </a:lnTo>
                  <a:lnTo>
                    <a:pt x="272" y="200"/>
                  </a:lnTo>
                  <a:lnTo>
                    <a:pt x="312" y="62"/>
                  </a:lnTo>
                  <a:lnTo>
                    <a:pt x="348" y="84"/>
                  </a:lnTo>
                  <a:lnTo>
                    <a:pt x="302" y="238"/>
                  </a:lnTo>
                  <a:lnTo>
                    <a:pt x="430" y="404"/>
                  </a:lnTo>
                  <a:lnTo>
                    <a:pt x="502" y="196"/>
                  </a:lnTo>
                  <a:lnTo>
                    <a:pt x="412" y="70"/>
                  </a:lnTo>
                  <a:lnTo>
                    <a:pt x="440" y="36"/>
                  </a:lnTo>
                  <a:lnTo>
                    <a:pt x="518" y="148"/>
                  </a:lnTo>
                  <a:lnTo>
                    <a:pt x="570" y="0"/>
                  </a:lnTo>
                  <a:lnTo>
                    <a:pt x="616" y="16"/>
                  </a:lnTo>
                  <a:lnTo>
                    <a:pt x="562" y="164"/>
                  </a:lnTo>
                  <a:lnTo>
                    <a:pt x="694" y="126"/>
                  </a:lnTo>
                  <a:lnTo>
                    <a:pt x="694" y="170"/>
                  </a:lnTo>
                  <a:lnTo>
                    <a:pt x="544" y="210"/>
                  </a:lnTo>
                  <a:lnTo>
                    <a:pt x="466" y="416"/>
                  </a:lnTo>
                  <a:lnTo>
                    <a:pt x="672" y="372"/>
                  </a:lnTo>
                  <a:lnTo>
                    <a:pt x="734" y="222"/>
                  </a:lnTo>
                  <a:lnTo>
                    <a:pt x="776" y="228"/>
                  </a:lnTo>
                  <a:lnTo>
                    <a:pt x="718" y="362"/>
                  </a:lnTo>
                  <a:lnTo>
                    <a:pt x="864" y="328"/>
                  </a:lnTo>
                  <a:lnTo>
                    <a:pt x="872" y="378"/>
                  </a:lnTo>
                  <a:lnTo>
                    <a:pt x="726" y="408"/>
                  </a:lnTo>
                  <a:lnTo>
                    <a:pt x="818" y="510"/>
                  </a:lnTo>
                  <a:lnTo>
                    <a:pt x="782" y="532"/>
                  </a:lnTo>
                  <a:lnTo>
                    <a:pt x="678" y="416"/>
                  </a:lnTo>
                  <a:lnTo>
                    <a:pt x="474" y="458"/>
                  </a:lnTo>
                  <a:lnTo>
                    <a:pt x="606" y="620"/>
                  </a:lnTo>
                  <a:lnTo>
                    <a:pt x="758" y="598"/>
                  </a:lnTo>
                  <a:lnTo>
                    <a:pt x="772" y="638"/>
                  </a:lnTo>
                  <a:lnTo>
                    <a:pt x="636" y="656"/>
                  </a:lnTo>
                  <a:lnTo>
                    <a:pt x="730" y="7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Freeform 21"/>
            <p:cNvGrpSpPr/>
            <p:nvPr/>
          </p:nvGrpSpPr>
          <p:grpSpPr>
            <a:xfrm>
              <a:off x="718920" y="3571920"/>
              <a:ext cx="1359720" cy="1428840"/>
              <a:chOff x="718920" y="3571920"/>
              <a:chExt cx="1359720" cy="1428840"/>
            </a:xfrm>
          </p:grpSpPr>
          <p:pic>
            <p:nvPicPr>
              <p:cNvPr id="61" name="Freeform 21" descr=""/>
              <p:cNvPicPr/>
              <p:nvPr/>
            </p:nvPicPr>
            <p:blipFill>
              <a:blip r:embed="rId3"/>
              <a:stretch/>
            </p:blipFill>
            <p:spPr>
              <a:xfrm>
                <a:off x="718920" y="3571920"/>
                <a:ext cx="1359720" cy="142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724320" y="3577320"/>
                <a:ext cx="1347480" cy="14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747D-107F-428F-90A2-FF43DADC51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news.ferra.ru/images/99/99181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scankiev.com.ua/skaner/images/big/00004.jpg" TargetMode="External"/><Relationship Id="rId4" Type="http://schemas.openxmlformats.org/officeDocument/2006/relationships/image" Target="../media/image23.jpeg"/><Relationship Id="rId5" Type="http://schemas.openxmlformats.org/officeDocument/2006/relationships/hyperlink" Target="http://www.morepc.ru/i/scanner/scanner.jpg" TargetMode="External"/><Relationship Id="rId6" Type="http://schemas.openxmlformats.org/officeDocument/2006/relationships/image" Target="../media/image24.jpeg"/><Relationship Id="rId7" Type="http://schemas.openxmlformats.org/officeDocument/2006/relationships/hyperlink" Target="http://www.barscanner.ru/admin/events/4367.jpg" TargetMode="External"/><Relationship Id="rId8" Type="http://schemas.openxmlformats.org/officeDocument/2006/relationships/image" Target="../media/image25.jpeg"/><Relationship Id="rId9" Type="http://schemas.openxmlformats.org/officeDocument/2006/relationships/hyperlink" Target="http://school.dentro.ru/computer/img/scaner_ru.jpg" TargetMode="External"/><Relationship Id="rId10" Type="http://schemas.openxmlformats.org/officeDocument/2006/relationships/image" Target="../media/image26.jpe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oksi.ru/images/ps60030/ps60030_1.jpg" TargetMode="External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hyperlink" Target="http://zhelezyaka.com/i/p/081030132615-philips-Webcam-Easy-SPC230NC.jpg" TargetMode="External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hyperlink" Target="http://blog.andreymalygin.ru/wp-content/uploads/2008/02/at2020usbb.jpg" TargetMode="External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ews.ferra.ru/images/99/99181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isecomp.ru/images/opticheskaya-mishka.jpg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" Target="slide3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5.xml"/><Relationship Id="rId14" Type="http://schemas.openxmlformats.org/officeDocument/2006/relationships/image" Target="../media/image6.jpe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chool.dentro.ru/computer/img/mouse_ball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mosgorshop.ru/katalog/products_pictures/F01184.1.jpg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wisecomp.ru/images/opticheskaya-mishka.jpg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school.dentro.ru/computer/img/mouse_optical_laser.jpg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www.defender.ru/images/products/img/jpg/s1t10805h.jpg" TargetMode="External"/><Relationship Id="rId10" Type="http://schemas.openxmlformats.org/officeDocument/2006/relationships/image" Target="../media/image11.jpeg"/><Relationship Id="rId11" Type="http://schemas.openxmlformats.org/officeDocument/2006/relationships/hyperlink" Target="http://www.storr.ru/Resources/Products/mysh_besprovodnaya_sweex_mi401_notebook_wireless_optical_mouse/Main_1_400x370_90.jpg" TargetMode="External"/><Relationship Id="rId12" Type="http://schemas.openxmlformats.org/officeDocument/2006/relationships/image" Target="../media/image12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28800" y="1285560"/>
            <a:ext cx="7500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entury Gothic"/>
                <a:ea typeface="Arial"/>
              </a:rPr>
              <a:t>Периферийные устройства</a:t>
            </a: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714840" y="4643280"/>
            <a:ext cx="500040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Устройства ввода информации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Century Gothic"/>
              </a:rPr>
              <a:t>Сканеры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77" name="Picture 5" descr="Картинка 9 из 11778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15040" y="1857240"/>
            <a:ext cx="2373480" cy="1571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Картинка 108 из 11778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2960" y="1785960"/>
            <a:ext cx="2143080" cy="1592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Картинка 23 из 47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00240" y="1785960"/>
            <a:ext cx="2857680" cy="38098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3" descr="Картинка 49 из 4363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85880" y="385776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5" descr="Картинка 51 из 4363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072120" y="4286160"/>
            <a:ext cx="2720880" cy="13399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4"/>
          <p:cNvSpPr/>
          <p:nvPr/>
        </p:nvSpPr>
        <p:spPr>
          <a:xfrm>
            <a:off x="285840" y="5643720"/>
            <a:ext cx="85723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Times New Roman"/>
              </a:rPr>
              <a:t>Сканер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– устройство оптического ввода информации.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10800" y="4020"/>
                </a:moveTo>
                <a:lnTo>
                  <a:pt x="13376" y="6631"/>
                </a:ln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lnTo>
                  <a:pt x="17763" y="10982"/>
                </a:lnTo>
                <a:lnTo>
                  <a:pt x="16109" y="10982"/>
                </a:lnTo>
                <a:lnTo>
                  <a:pt x="16109" y="18172"/>
                </a:lnTo>
                <a:lnTo>
                  <a:pt x="5491" y="18172"/>
                </a:lnTo>
                <a:lnTo>
                  <a:pt x="5491" y="10982"/>
                </a:lnTo>
                <a:lnTo>
                  <a:pt x="3837" y="10982"/>
                </a:lnTo>
                <a:close/>
              </a:path>
              <a:path fill="darkenLess" w="21600" h="21965">
                <a:moveTo>
                  <a:pt x="13376" y="6631"/>
                </a:move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close/>
              </a:path>
              <a:path fill="darkenLess" w="21600" h="21965">
                <a:moveTo>
                  <a:pt x="9877" y="14481"/>
                </a:moveTo>
                <a:lnTo>
                  <a:pt x="11723" y="14481"/>
                </a:lnTo>
                <a:lnTo>
                  <a:pt x="11723" y="18172"/>
                </a:lnTo>
                <a:lnTo>
                  <a:pt x="16109" y="18172"/>
                </a:lnTo>
                <a:lnTo>
                  <a:pt x="16109" y="10982"/>
                </a:lnTo>
                <a:lnTo>
                  <a:pt x="5491" y="10982"/>
                </a:lnTo>
                <a:lnTo>
                  <a:pt x="5491" y="18172"/>
                </a:lnTo>
                <a:lnTo>
                  <a:pt x="9877" y="1817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entury Gothic"/>
              </a:rPr>
              <a:t>Виды сканеров</a:t>
            </a: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85" name="Organization Chart 6"/>
          <p:cNvGrpSpPr/>
          <p:nvPr/>
        </p:nvGrpSpPr>
        <p:grpSpPr>
          <a:xfrm>
            <a:off x="785880" y="2499840"/>
            <a:ext cx="7463880" cy="1346040"/>
            <a:chOff x="785880" y="2499840"/>
            <a:chExt cx="7463880" cy="1346040"/>
          </a:xfrm>
        </p:grpSpPr>
        <p:cxnSp>
          <p:nvCxnSpPr>
            <p:cNvPr id="186" name="_s1031"/>
            <p:cNvCxnSpPr>
              <a:stCxn id="187" idx="0"/>
            </p:cNvCxnSpPr>
            <p:nvPr/>
          </p:nvCxnSpPr>
          <p:spPr>
            <a:xfrm flipV="1" rot="16200000">
              <a:off x="5600520" y="1419120"/>
              <a:ext cx="449280" cy="2610000"/>
            </a:xfrm>
            <a:prstGeom prst="bentConnector3">
              <a:avLst>
                <a:gd name="adj1" fmla="val 3087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8" name="_s1032"/>
            <p:cNvCxnSpPr>
              <a:stCxn id="189" idx="0"/>
            </p:cNvCxnSpPr>
            <p:nvPr/>
          </p:nvCxnSpPr>
          <p:spPr>
            <a:xfrm flipV="1">
              <a:off x="4520520" y="2499840"/>
              <a:ext cx="2880" cy="4492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0" name="_s1033"/>
            <p:cNvCxnSpPr>
              <a:stCxn id="191" idx="0"/>
            </p:cNvCxnSpPr>
            <p:nvPr/>
          </p:nvCxnSpPr>
          <p:spPr>
            <a:xfrm flipH="1" flipV="1" rot="5400000">
              <a:off x="2988360" y="1416600"/>
              <a:ext cx="449280" cy="2615760"/>
            </a:xfrm>
            <a:prstGeom prst="bentConnector3">
              <a:avLst>
                <a:gd name="adj1" fmla="val 3087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1" name="_s1035"/>
            <p:cNvSpPr/>
            <p:nvPr/>
          </p:nvSpPr>
          <p:spPr>
            <a:xfrm>
              <a:off x="785880" y="2948760"/>
              <a:ext cx="2239200" cy="897120"/>
            </a:xfrm>
            <a:prstGeom prst="roundRect">
              <a:avLst>
                <a:gd name="adj" fmla="val 16667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Verdana"/>
                </a:rPr>
                <a:t>Планшетн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1036"/>
            <p:cNvSpPr/>
            <p:nvPr/>
          </p:nvSpPr>
          <p:spPr>
            <a:xfrm>
              <a:off x="3398040" y="2948760"/>
              <a:ext cx="2239200" cy="897120"/>
            </a:xfrm>
            <a:prstGeom prst="roundRect">
              <a:avLst>
                <a:gd name="adj" fmla="val 16667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Verdana"/>
                </a:rPr>
                <a:t>Барабанн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1037"/>
            <p:cNvSpPr/>
            <p:nvPr/>
          </p:nvSpPr>
          <p:spPr>
            <a:xfrm>
              <a:off x="6010560" y="2948760"/>
              <a:ext cx="2239200" cy="897120"/>
            </a:xfrm>
            <a:prstGeom prst="roundRect">
              <a:avLst>
                <a:gd name="adj" fmla="val 16667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Verdana"/>
                </a:rPr>
                <a:t>Ручн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2" name="Picture 11" descr="Картинка 60 из 47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14840" y="4214880"/>
            <a:ext cx="1731960" cy="2309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9" descr="русной сканер"/>
          <p:cNvPicPr/>
          <p:nvPr/>
        </p:nvPicPr>
        <p:blipFill>
          <a:blip r:embed="rId3"/>
          <a:stretch/>
        </p:blipFill>
        <p:spPr>
          <a:xfrm>
            <a:off x="6143760" y="4038480"/>
            <a:ext cx="2143080" cy="2319480"/>
          </a:xfrm>
          <a:prstGeom prst="rect">
            <a:avLst/>
          </a:prstGeom>
          <a:ln w="0">
            <a:noFill/>
          </a:ln>
        </p:spPr>
      </p:pic>
      <p:sp>
        <p:nvSpPr>
          <p:cNvPr id="194" name="_s1036"/>
          <p:cNvSpPr/>
          <p:nvPr/>
        </p:nvSpPr>
        <p:spPr>
          <a:xfrm>
            <a:off x="3357720" y="1643040"/>
            <a:ext cx="2239920" cy="8809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Verdana"/>
              </a:rPr>
              <a:t>СКАНЕР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6" descr=""/>
          <p:cNvPicPr/>
          <p:nvPr/>
        </p:nvPicPr>
        <p:blipFill>
          <a:blip r:embed="rId4"/>
          <a:stretch/>
        </p:blipFill>
        <p:spPr>
          <a:xfrm>
            <a:off x="642960" y="4572000"/>
            <a:ext cx="2417760" cy="13572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10800" y="4020"/>
                </a:moveTo>
                <a:lnTo>
                  <a:pt x="13376" y="6631"/>
                </a:ln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lnTo>
                  <a:pt x="17763" y="10982"/>
                </a:lnTo>
                <a:lnTo>
                  <a:pt x="16109" y="10982"/>
                </a:lnTo>
                <a:lnTo>
                  <a:pt x="16109" y="18172"/>
                </a:lnTo>
                <a:lnTo>
                  <a:pt x="5491" y="18172"/>
                </a:lnTo>
                <a:lnTo>
                  <a:pt x="5491" y="10982"/>
                </a:lnTo>
                <a:lnTo>
                  <a:pt x="3837" y="10982"/>
                </a:lnTo>
                <a:close/>
              </a:path>
              <a:path fill="darkenLess" w="21600" h="21965">
                <a:moveTo>
                  <a:pt x="13376" y="6631"/>
                </a:move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close/>
              </a:path>
              <a:path fill="darkenLess" w="21600" h="21965">
                <a:moveTo>
                  <a:pt x="9877" y="14481"/>
                </a:moveTo>
                <a:lnTo>
                  <a:pt x="11723" y="14481"/>
                </a:lnTo>
                <a:lnTo>
                  <a:pt x="11723" y="18172"/>
                </a:lnTo>
                <a:lnTo>
                  <a:pt x="16109" y="18172"/>
                </a:lnTo>
                <a:lnTo>
                  <a:pt x="16109" y="10982"/>
                </a:lnTo>
                <a:lnTo>
                  <a:pt x="5491" y="10982"/>
                </a:lnTo>
                <a:lnTo>
                  <a:pt x="5491" y="18172"/>
                </a:lnTo>
                <a:lnTo>
                  <a:pt x="9877" y="1817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Устройство </a:t>
            </a:r>
            <a:br>
              <a:rPr sz="4800"/>
            </a:b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планшетного сканера</a:t>
            </a:r>
            <a:endParaRPr b="1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763640" y="2060640"/>
            <a:ext cx="5556240" cy="39034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979640" y="2133720"/>
            <a:ext cx="5040360" cy="36795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10800" y="4020"/>
                </a:moveTo>
                <a:lnTo>
                  <a:pt x="13376" y="6631"/>
                </a:ln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lnTo>
                  <a:pt x="17763" y="10982"/>
                </a:lnTo>
                <a:lnTo>
                  <a:pt x="16109" y="10982"/>
                </a:lnTo>
                <a:lnTo>
                  <a:pt x="16109" y="18172"/>
                </a:lnTo>
                <a:lnTo>
                  <a:pt x="5491" y="18172"/>
                </a:lnTo>
                <a:lnTo>
                  <a:pt x="5491" y="10982"/>
                </a:lnTo>
                <a:lnTo>
                  <a:pt x="3837" y="10982"/>
                </a:lnTo>
                <a:close/>
              </a:path>
              <a:path fill="darkenLess" w="21600" h="21965">
                <a:moveTo>
                  <a:pt x="13376" y="6631"/>
                </a:move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close/>
              </a:path>
              <a:path fill="darkenLess" w="21600" h="21965">
                <a:moveTo>
                  <a:pt x="9877" y="14481"/>
                </a:moveTo>
                <a:lnTo>
                  <a:pt x="11723" y="14481"/>
                </a:lnTo>
                <a:lnTo>
                  <a:pt x="11723" y="18172"/>
                </a:lnTo>
                <a:lnTo>
                  <a:pt x="16109" y="18172"/>
                </a:lnTo>
                <a:lnTo>
                  <a:pt x="16109" y="10982"/>
                </a:lnTo>
                <a:lnTo>
                  <a:pt x="5491" y="10982"/>
                </a:lnTo>
                <a:lnTo>
                  <a:pt x="5491" y="18172"/>
                </a:lnTo>
                <a:lnTo>
                  <a:pt x="9877" y="1817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8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entury Gothic"/>
              </a:rPr>
              <a:t>Основные пользовательские характеристики:</a:t>
            </a:r>
            <a:endParaRPr b="1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428760" y="1785960"/>
            <a:ext cx="822960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Разрешающая способность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– количество распознаваемых точек (пикселей) на дюй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Скорость сканирования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– показатель быстродействия, который равен времени, затрачиваемому на обработку одной строки изоб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Размеры сканируемого листа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(область сканирова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Разрядность битового представления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– определяет количество цветов или оттенков серого, которые может воспринимать скан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10800" y="4020"/>
                </a:moveTo>
                <a:lnTo>
                  <a:pt x="13376" y="6631"/>
                </a:ln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lnTo>
                  <a:pt x="17763" y="10982"/>
                </a:lnTo>
                <a:lnTo>
                  <a:pt x="16109" y="10982"/>
                </a:lnTo>
                <a:lnTo>
                  <a:pt x="16109" y="18172"/>
                </a:lnTo>
                <a:lnTo>
                  <a:pt x="5491" y="18172"/>
                </a:lnTo>
                <a:lnTo>
                  <a:pt x="5491" y="10982"/>
                </a:lnTo>
                <a:lnTo>
                  <a:pt x="3837" y="10982"/>
                </a:lnTo>
                <a:close/>
              </a:path>
              <a:path fill="darkenLess" w="21600" h="21965">
                <a:moveTo>
                  <a:pt x="13376" y="6631"/>
                </a:move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close/>
              </a:path>
              <a:path fill="darkenLess" w="21600" h="21965">
                <a:moveTo>
                  <a:pt x="9877" y="14481"/>
                </a:moveTo>
                <a:lnTo>
                  <a:pt x="11723" y="14481"/>
                </a:lnTo>
                <a:lnTo>
                  <a:pt x="11723" y="18172"/>
                </a:lnTo>
                <a:lnTo>
                  <a:pt x="16109" y="18172"/>
                </a:lnTo>
                <a:lnTo>
                  <a:pt x="16109" y="10982"/>
                </a:lnTo>
                <a:lnTo>
                  <a:pt x="5491" y="10982"/>
                </a:lnTo>
                <a:lnTo>
                  <a:pt x="5491" y="18172"/>
                </a:lnTo>
                <a:lnTo>
                  <a:pt x="9877" y="1817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50920" y="551664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Web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-камеры используются для передачи «живого» видео по компьютерным се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4000" y="1700280"/>
            <a:ext cx="8569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Веб-каме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устройство для ввода в память компьютера видеоинформации в режиме реального врем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195640" y="3860640"/>
            <a:ext cx="971280" cy="13147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250920" y="2565360"/>
            <a:ext cx="2089080" cy="15588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5724360" y="3789360"/>
            <a:ext cx="1371600" cy="14288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Картинка 7 из 83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635280" y="2781360"/>
            <a:ext cx="1616040" cy="29131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>
            <a:off x="7164360" y="2421000"/>
            <a:ext cx="1409760" cy="1428840"/>
          </a:xfrm>
          <a:prstGeom prst="rect">
            <a:avLst/>
          </a:prstGeom>
          <a:ln w="0">
            <a:noFill/>
          </a:ln>
        </p:spPr>
      </p:pic>
      <p:sp>
        <p:nvSpPr>
          <p:cNvPr id="211" name="Заголовок 1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entury Gothic"/>
              </a:rPr>
              <a:t>Веб - кам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10800" y="4020"/>
                </a:moveTo>
                <a:lnTo>
                  <a:pt x="13376" y="6631"/>
                </a:ln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lnTo>
                  <a:pt x="17763" y="10982"/>
                </a:lnTo>
                <a:lnTo>
                  <a:pt x="16109" y="10982"/>
                </a:lnTo>
                <a:lnTo>
                  <a:pt x="16109" y="18172"/>
                </a:lnTo>
                <a:lnTo>
                  <a:pt x="5491" y="18172"/>
                </a:lnTo>
                <a:lnTo>
                  <a:pt x="5491" y="10982"/>
                </a:lnTo>
                <a:lnTo>
                  <a:pt x="3837" y="10982"/>
                </a:lnTo>
                <a:close/>
              </a:path>
              <a:path fill="darkenLess" w="21600" h="21965">
                <a:moveTo>
                  <a:pt x="13376" y="6631"/>
                </a:move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close/>
              </a:path>
              <a:path fill="darkenLess" w="21600" h="21965">
                <a:moveTo>
                  <a:pt x="9877" y="14481"/>
                </a:moveTo>
                <a:lnTo>
                  <a:pt x="11723" y="14481"/>
                </a:lnTo>
                <a:lnTo>
                  <a:pt x="11723" y="18172"/>
                </a:lnTo>
                <a:lnTo>
                  <a:pt x="16109" y="18172"/>
                </a:lnTo>
                <a:lnTo>
                  <a:pt x="16109" y="10982"/>
                </a:lnTo>
                <a:lnTo>
                  <a:pt x="5491" y="10982"/>
                </a:lnTo>
                <a:lnTo>
                  <a:pt x="5491" y="18172"/>
                </a:lnTo>
                <a:lnTo>
                  <a:pt x="9877" y="1817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50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entury Gothic"/>
              </a:rPr>
              <a:t>Микрофон</a:t>
            </a: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4" name="Текст 2" descr=""/>
          <p:cNvPicPr/>
          <p:nvPr/>
        </p:nvPicPr>
        <p:blipFill>
          <a:blip r:embed="rId1"/>
          <a:stretch/>
        </p:blipFill>
        <p:spPr>
          <a:xfrm>
            <a:off x="1187280" y="3789360"/>
            <a:ext cx="1816200" cy="1816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2881080" cy="21621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6588000" y="1844640"/>
            <a:ext cx="1785960" cy="2160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6372360" y="4076640"/>
            <a:ext cx="2232000" cy="16779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Картинка 42 из 1135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33640" y="1844640"/>
            <a:ext cx="1944720" cy="3456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71280" y="5805360"/>
            <a:ext cx="907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f1d2b"/>
                </a:solidFill>
                <a:latin typeface="Arial"/>
              </a:rPr>
              <a:t>Микрофон – устройство для ввода звуковой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10800" y="4020"/>
                </a:moveTo>
                <a:lnTo>
                  <a:pt x="13376" y="6631"/>
                </a:ln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lnTo>
                  <a:pt x="17763" y="10982"/>
                </a:lnTo>
                <a:lnTo>
                  <a:pt x="16109" y="10982"/>
                </a:lnTo>
                <a:lnTo>
                  <a:pt x="16109" y="18172"/>
                </a:lnTo>
                <a:lnTo>
                  <a:pt x="5491" y="18172"/>
                </a:lnTo>
                <a:lnTo>
                  <a:pt x="5491" y="10982"/>
                </a:lnTo>
                <a:lnTo>
                  <a:pt x="3837" y="10982"/>
                </a:lnTo>
                <a:close/>
              </a:path>
              <a:path fill="darkenLess" w="21600" h="21965">
                <a:moveTo>
                  <a:pt x="13376" y="6631"/>
                </a:move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close/>
              </a:path>
              <a:path fill="darkenLess" w="21600" h="21965">
                <a:moveTo>
                  <a:pt x="9877" y="14481"/>
                </a:moveTo>
                <a:lnTo>
                  <a:pt x="11723" y="14481"/>
                </a:lnTo>
                <a:lnTo>
                  <a:pt x="11723" y="18172"/>
                </a:lnTo>
                <a:lnTo>
                  <a:pt x="16109" y="18172"/>
                </a:lnTo>
                <a:lnTo>
                  <a:pt x="16109" y="10982"/>
                </a:lnTo>
                <a:lnTo>
                  <a:pt x="5491" y="10982"/>
                </a:lnTo>
                <a:lnTo>
                  <a:pt x="5491" y="18172"/>
                </a:lnTo>
                <a:lnTo>
                  <a:pt x="9877" y="1817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500"/>
                            </p:stCondLst>
                            <p:childTnLst>
                              <p:par>
                                <p:cTn id="4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>
                <a:solidFill>
                  <a:srgbClr val="ffffff"/>
                </a:solidFill>
                <a:latin typeface="Times New Roman"/>
              </a:rPr>
              <a:t>Устройства ввода информации</a:t>
            </a:r>
            <a:br>
              <a:rPr sz="4300"/>
            </a:br>
            <a:endParaRPr b="1" lang="en-US" sz="4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964720" cy="14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f1d2b"/>
                </a:solidFill>
                <a:latin typeface="Arial"/>
              </a:rPr>
              <a:t>Аппаратные средства для преобразования информации из формы понятной человеку, в форму, воспринимаемую компьютером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15" name="Picture 5" descr="Картинка 9 из 11778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3068640"/>
            <a:ext cx="1857240" cy="1230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http://wisecomp.ru/images/opticheskaya-mishk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740720" y="5589720"/>
            <a:ext cx="1042920" cy="1000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5"/>
          <a:stretch/>
        </p:blipFill>
        <p:spPr>
          <a:xfrm>
            <a:off x="6084720" y="4653000"/>
            <a:ext cx="1859040" cy="9288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6"/>
          <p:cNvSpPr/>
          <p:nvPr/>
        </p:nvSpPr>
        <p:spPr>
          <a:xfrm>
            <a:off x="395280" y="3141720"/>
            <a:ext cx="59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 устройствам ввода относя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Arial"/>
                <a:hlinkClick r:id="rId6" action="ppaction://hlinksldjump"/>
              </a:rPr>
              <a:t>Клави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Arial"/>
                <a:hlinkClick r:id="rId7" action="ppaction://hlinksldjump"/>
              </a:rPr>
              <a:t>Координатные устройства вв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Arial"/>
                <a:hlinkClick r:id="rId8" action="ppaction://hlinksldjump"/>
              </a:rPr>
              <a:t>мы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Arial"/>
                <a:hlinkClick r:id="rId9" action="ppaction://hlinksldjump"/>
              </a:rPr>
              <a:t>трекб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Arial"/>
                <a:hlinkClick r:id="rId10" action="ppaction://hlinksldjump"/>
              </a:rPr>
              <a:t>сетевое пе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Arial"/>
                <a:hlinkClick r:id="rId11" action="ppaction://hlinksldjump"/>
              </a:rPr>
              <a:t>Манипуля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Arial"/>
                <a:hlinkClick r:id="rId12" action="ppaction://hlinksldjump"/>
              </a:rPr>
              <a:t>Скан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Arial"/>
                <a:hlinkClick r:id="rId13" action="ppaction://hlinksldjump"/>
              </a:rPr>
              <a:t>Микроф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4"/>
          <a:stretch/>
        </p:blipFill>
        <p:spPr>
          <a:xfrm>
            <a:off x="4643280" y="5157720"/>
            <a:ext cx="1170000" cy="13636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7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5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85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entury Gothic"/>
              </a:rPr>
              <a:t>Клавиатура</a:t>
            </a: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542916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694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авиатура – стандартное устройство для ввода числовой и текстовой информации.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40120" cy="2368440"/>
          </a:xfrm>
          <a:prstGeom prst="rect">
            <a:avLst/>
          </a:prstGeom>
          <a:ln w="0">
            <a:noFill/>
          </a:ln>
        </p:spPr>
      </p:pic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10800" y="4020"/>
                </a:moveTo>
                <a:lnTo>
                  <a:pt x="13376" y="6631"/>
                </a:ln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lnTo>
                  <a:pt x="17763" y="10982"/>
                </a:lnTo>
                <a:lnTo>
                  <a:pt x="16109" y="10982"/>
                </a:lnTo>
                <a:lnTo>
                  <a:pt x="16109" y="18172"/>
                </a:lnTo>
                <a:lnTo>
                  <a:pt x="5491" y="18172"/>
                </a:lnTo>
                <a:lnTo>
                  <a:pt x="5491" y="10982"/>
                </a:lnTo>
                <a:lnTo>
                  <a:pt x="3837" y="10982"/>
                </a:lnTo>
                <a:close/>
              </a:path>
              <a:path fill="darkenLess" w="21600" h="21965">
                <a:moveTo>
                  <a:pt x="13376" y="6631"/>
                </a:move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close/>
              </a:path>
              <a:path fill="darkenLess" w="21600" h="21965">
                <a:moveTo>
                  <a:pt x="9877" y="14481"/>
                </a:moveTo>
                <a:lnTo>
                  <a:pt x="11723" y="14481"/>
                </a:lnTo>
                <a:lnTo>
                  <a:pt x="11723" y="18172"/>
                </a:lnTo>
                <a:lnTo>
                  <a:pt x="16109" y="18172"/>
                </a:lnTo>
                <a:lnTo>
                  <a:pt x="16109" y="10982"/>
                </a:lnTo>
                <a:lnTo>
                  <a:pt x="5491" y="10982"/>
                </a:lnTo>
                <a:lnTo>
                  <a:pt x="5491" y="18172"/>
                </a:lnTo>
                <a:lnTo>
                  <a:pt x="9877" y="1817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7" descr=""/>
          <p:cNvPicPr/>
          <p:nvPr/>
        </p:nvPicPr>
        <p:blipFill>
          <a:blip r:embed="rId1"/>
          <a:stretch/>
        </p:blipFill>
        <p:spPr>
          <a:xfrm>
            <a:off x="1116000" y="3141720"/>
            <a:ext cx="6416640" cy="199548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12"/>
          <p:cNvSpPr/>
          <p:nvPr/>
        </p:nvSpPr>
        <p:spPr>
          <a:xfrm>
            <a:off x="3348000" y="2349360"/>
            <a:ext cx="1871640" cy="503280"/>
          </a:xfrm>
          <a:prstGeom prst="wedgeRectCallout">
            <a:avLst>
              <a:gd name="adj1" fmla="val -42027"/>
              <a:gd name="adj2" fmla="val 167032"/>
            </a:avLst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ункциона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3"/>
          <p:cNvSpPr/>
          <p:nvPr/>
        </p:nvSpPr>
        <p:spPr>
          <a:xfrm>
            <a:off x="3276720" y="5516640"/>
            <a:ext cx="1582560" cy="792000"/>
          </a:xfrm>
          <a:prstGeom prst="wedgeRectCallout">
            <a:avLst>
              <a:gd name="adj1" fmla="val 53111"/>
              <a:gd name="adj2" fmla="val -123546"/>
            </a:avLst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ndows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лавиш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7380360" y="5373720"/>
            <a:ext cx="1584360" cy="792000"/>
          </a:xfrm>
          <a:prstGeom prst="wedgeRectCallout">
            <a:avLst>
              <a:gd name="adj1" fmla="val -129759"/>
              <a:gd name="adj2" fmla="val -114129"/>
            </a:avLst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правления курсор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8"/>
          <p:cNvSpPr/>
          <p:nvPr/>
        </p:nvSpPr>
        <p:spPr>
          <a:xfrm>
            <a:off x="108000" y="5300640"/>
            <a:ext cx="2160360" cy="720720"/>
          </a:xfrm>
          <a:prstGeom prst="wedgeRectCallout">
            <a:avLst>
              <a:gd name="adj1" fmla="val 106504"/>
              <a:gd name="adj2" fmla="val -219384"/>
            </a:avLst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Алфавитно-цифр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9"/>
          <p:cNvSpPr/>
          <p:nvPr/>
        </p:nvSpPr>
        <p:spPr>
          <a:xfrm>
            <a:off x="6694560" y="2060640"/>
            <a:ext cx="2270160" cy="718920"/>
          </a:xfrm>
          <a:prstGeom prst="wedgeRectCallout">
            <a:avLst>
              <a:gd name="adj1" fmla="val -79791"/>
              <a:gd name="adj2" fmla="val 185981"/>
            </a:avLst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едактирования и листания докумен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4"/>
          <p:cNvSpPr/>
          <p:nvPr/>
        </p:nvSpPr>
        <p:spPr>
          <a:xfrm>
            <a:off x="7596360" y="3141720"/>
            <a:ext cx="1547640" cy="718920"/>
          </a:xfrm>
          <a:prstGeom prst="wedgeRectCallout">
            <a:avLst>
              <a:gd name="adj1" fmla="val -99333"/>
              <a:gd name="adj2" fmla="val 102759"/>
            </a:avLst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Цифровой бл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5"/>
          <p:cNvSpPr/>
          <p:nvPr/>
        </p:nvSpPr>
        <p:spPr>
          <a:xfrm>
            <a:off x="5219640" y="5734080"/>
            <a:ext cx="1513080" cy="863640"/>
          </a:xfrm>
          <a:prstGeom prst="wedgeRectCallout">
            <a:avLst>
              <a:gd name="adj1" fmla="val -22194"/>
              <a:gd name="adj2" fmla="val -219851"/>
            </a:avLst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правление пита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179280" y="2205000"/>
            <a:ext cx="1656000" cy="576360"/>
          </a:xfrm>
          <a:prstGeom prst="wedgeRectCallout">
            <a:avLst>
              <a:gd name="adj1" fmla="val 23537"/>
              <a:gd name="adj2" fmla="val 325481"/>
            </a:avLst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пециа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Заголовок 1"/>
          <p:cNvSpPr/>
          <p:nvPr/>
        </p:nvSpPr>
        <p:spPr>
          <a:xfrm>
            <a:off x="3571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entury Gothic"/>
              </a:rPr>
              <a:t>Клави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2" action="ppaction://hlinksldjump"/>
          </p:cNvPr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10800" y="4020"/>
                </a:moveTo>
                <a:lnTo>
                  <a:pt x="13376" y="6631"/>
                </a:ln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lnTo>
                  <a:pt x="17763" y="10982"/>
                </a:lnTo>
                <a:lnTo>
                  <a:pt x="16109" y="10982"/>
                </a:lnTo>
                <a:lnTo>
                  <a:pt x="16109" y="18172"/>
                </a:lnTo>
                <a:lnTo>
                  <a:pt x="5491" y="18172"/>
                </a:lnTo>
                <a:lnTo>
                  <a:pt x="5491" y="10982"/>
                </a:lnTo>
                <a:lnTo>
                  <a:pt x="3837" y="10982"/>
                </a:lnTo>
                <a:close/>
              </a:path>
              <a:path fill="darkenLess" w="21600" h="21965">
                <a:moveTo>
                  <a:pt x="13376" y="6631"/>
                </a:move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close/>
              </a:path>
              <a:path fill="darkenLess" w="21600" h="21965">
                <a:moveTo>
                  <a:pt x="9877" y="14481"/>
                </a:moveTo>
                <a:lnTo>
                  <a:pt x="11723" y="14481"/>
                </a:lnTo>
                <a:lnTo>
                  <a:pt x="11723" y="18172"/>
                </a:lnTo>
                <a:lnTo>
                  <a:pt x="16109" y="18172"/>
                </a:lnTo>
                <a:lnTo>
                  <a:pt x="16109" y="10982"/>
                </a:lnTo>
                <a:lnTo>
                  <a:pt x="5491" y="10982"/>
                </a:lnTo>
                <a:lnTo>
                  <a:pt x="5491" y="18172"/>
                </a:lnTo>
                <a:lnTo>
                  <a:pt x="9877" y="1817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entury Gothic"/>
              </a:rPr>
              <a:t>Координатные устройства ввода</a:t>
            </a:r>
            <a:endParaRPr b="1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3141720"/>
            <a:ext cx="2928960" cy="61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40404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Механическая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Содержимое 2"/>
          <p:cNvSpPr/>
          <p:nvPr/>
        </p:nvSpPr>
        <p:spPr>
          <a:xfrm>
            <a:off x="2843280" y="3860640"/>
            <a:ext cx="34002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2. Опт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одержимое 2"/>
          <p:cNvSpPr/>
          <p:nvPr/>
        </p:nvSpPr>
        <p:spPr>
          <a:xfrm>
            <a:off x="5508720" y="3213000"/>
            <a:ext cx="34002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3. Беспровод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одержимое 2"/>
          <p:cNvSpPr/>
          <p:nvPr/>
        </p:nvSpPr>
        <p:spPr>
          <a:xfrm>
            <a:off x="2771640" y="1628640"/>
            <a:ext cx="340056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Мы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Картинка 1 из 201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645000"/>
            <a:ext cx="1500120" cy="884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Картинка 19 из 201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63640" y="3716280"/>
            <a:ext cx="1133640" cy="841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http://wisecomp.ru/images/opticheskaya-mishka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88000" y="4365720"/>
            <a:ext cx="1042920" cy="1000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Картинка 27 из 27876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76720" y="4365720"/>
            <a:ext cx="1326960" cy="1000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Картинка 24 из 19477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084720" y="371628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Картинка 52 из 19477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596360" y="3716280"/>
            <a:ext cx="1163520" cy="107640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12"/>
          <p:cNvSpPr/>
          <p:nvPr/>
        </p:nvSpPr>
        <p:spPr>
          <a:xfrm>
            <a:off x="250920" y="558972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84807"/>
                </a:solidFill>
                <a:latin typeface="Arial"/>
              </a:rPr>
              <a:t>Мыш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это устройство-манипулятор для управления курсором и для работы с графическим интерфейс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Штриховая стрелка вправо 13"/>
          <p:cNvSpPr/>
          <p:nvPr/>
        </p:nvSpPr>
        <p:spPr>
          <a:xfrm rot="8624400">
            <a:off x="2626560" y="2565000"/>
            <a:ext cx="1197000" cy="220680"/>
          </a:xfrm>
          <a:custGeom>
            <a:avLst/>
            <a:gdLst>
              <a:gd name="textAreaLeft" fmla="*/ 34200 w 1197000"/>
              <a:gd name="textAreaRight" fmla="*/ 1142280 w 1197000"/>
              <a:gd name="textAreaTop" fmla="*/ 55080 h 220680"/>
              <a:gd name="textAreaBottom" fmla="*/ 165600 h 220680"/>
            </a:gdLst>
            <a:ahLst/>
            <a:rect l="textAreaLeft" t="textAreaTop" r="textAreaRight" b="textAreaBottom"/>
            <a:pathLst>
              <a:path w="1198195" h="219593">
                <a:moveTo>
                  <a:pt x="0" y="54898"/>
                </a:moveTo>
                <a:lnTo>
                  <a:pt x="6862" y="54898"/>
                </a:lnTo>
                <a:lnTo>
                  <a:pt x="6862" y="164695"/>
                </a:lnTo>
                <a:lnTo>
                  <a:pt x="0" y="164695"/>
                </a:lnTo>
                <a:close/>
                <a:moveTo>
                  <a:pt x="13725" y="54898"/>
                </a:moveTo>
                <a:lnTo>
                  <a:pt x="27449" y="54898"/>
                </a:lnTo>
                <a:lnTo>
                  <a:pt x="27449" y="164695"/>
                </a:lnTo>
                <a:lnTo>
                  <a:pt x="13725" y="164695"/>
                </a:lnTo>
                <a:close/>
                <a:moveTo>
                  <a:pt x="34311" y="54898"/>
                </a:moveTo>
                <a:lnTo>
                  <a:pt x="1088399" y="54898"/>
                </a:lnTo>
                <a:lnTo>
                  <a:pt x="1088399" y="0"/>
                </a:lnTo>
                <a:lnTo>
                  <a:pt x="1198195" y="109797"/>
                </a:lnTo>
                <a:lnTo>
                  <a:pt x="1088399" y="219593"/>
                </a:lnTo>
                <a:lnTo>
                  <a:pt x="1088399" y="164695"/>
                </a:lnTo>
                <a:lnTo>
                  <a:pt x="34311" y="164695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af1d2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Штриховая стрелка вправо 14"/>
          <p:cNvSpPr/>
          <p:nvPr/>
        </p:nvSpPr>
        <p:spPr>
          <a:xfrm rot="5400000">
            <a:off x="3713040" y="2919240"/>
            <a:ext cx="1571400" cy="285840"/>
          </a:xfrm>
          <a:custGeom>
            <a:avLst/>
            <a:gdLst>
              <a:gd name="textAreaLeft" fmla="*/ 44640 w 1571400"/>
              <a:gd name="textAreaRight" fmla="*/ 1500120 w 1571400"/>
              <a:gd name="textAreaTop" fmla="*/ 71280 h 285840"/>
              <a:gd name="textAreaBottom" fmla="*/ 214560 h 285840"/>
            </a:gdLst>
            <a:ahLst/>
            <a:rect l="textAreaLeft" t="textAreaTop" r="textAreaRight" b="textAreaBottom"/>
            <a:pathLst>
              <a:path w="1571636" h="285752">
                <a:moveTo>
                  <a:pt x="0" y="71438"/>
                </a:moveTo>
                <a:lnTo>
                  <a:pt x="8930" y="71438"/>
                </a:lnTo>
                <a:lnTo>
                  <a:pt x="8930" y="214314"/>
                </a:lnTo>
                <a:lnTo>
                  <a:pt x="0" y="214314"/>
                </a:lnTo>
                <a:close/>
                <a:moveTo>
                  <a:pt x="17860" y="71438"/>
                </a:moveTo>
                <a:lnTo>
                  <a:pt x="35719" y="71438"/>
                </a:lnTo>
                <a:lnTo>
                  <a:pt x="35719" y="214314"/>
                </a:lnTo>
                <a:lnTo>
                  <a:pt x="17860" y="214314"/>
                </a:lnTo>
                <a:close/>
                <a:moveTo>
                  <a:pt x="44649" y="71438"/>
                </a:moveTo>
                <a:lnTo>
                  <a:pt x="1428760" y="71438"/>
                </a:lnTo>
                <a:lnTo>
                  <a:pt x="1428760" y="0"/>
                </a:lnTo>
                <a:lnTo>
                  <a:pt x="1571636" y="142876"/>
                </a:lnTo>
                <a:lnTo>
                  <a:pt x="1428760" y="285752"/>
                </a:lnTo>
                <a:lnTo>
                  <a:pt x="1428760" y="214314"/>
                </a:lnTo>
                <a:lnTo>
                  <a:pt x="44649" y="214314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af1d2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Штриховая стрелка вправо 15"/>
          <p:cNvSpPr/>
          <p:nvPr/>
        </p:nvSpPr>
        <p:spPr>
          <a:xfrm rot="2562000">
            <a:off x="5148000" y="2565000"/>
            <a:ext cx="1216080" cy="290520"/>
          </a:xfrm>
          <a:custGeom>
            <a:avLst/>
            <a:gdLst>
              <a:gd name="textAreaLeft" fmla="*/ 45360 w 1216080"/>
              <a:gd name="textAreaRight" fmla="*/ 1143720 w 1216080"/>
              <a:gd name="textAreaTop" fmla="*/ 72720 h 290520"/>
              <a:gd name="textAreaBottom" fmla="*/ 218160 h 290520"/>
            </a:gdLst>
            <a:ahLst/>
            <a:rect l="textAreaLeft" t="textAreaTop" r="textAreaRight" b="textAreaBottom"/>
            <a:pathLst>
              <a:path w="1214446" h="289898">
                <a:moveTo>
                  <a:pt x="0" y="72475"/>
                </a:moveTo>
                <a:lnTo>
                  <a:pt x="9059" y="72475"/>
                </a:lnTo>
                <a:lnTo>
                  <a:pt x="9059" y="217424"/>
                </a:lnTo>
                <a:lnTo>
                  <a:pt x="0" y="217424"/>
                </a:lnTo>
                <a:close/>
                <a:moveTo>
                  <a:pt x="18119" y="72475"/>
                </a:moveTo>
                <a:lnTo>
                  <a:pt x="36237" y="72475"/>
                </a:lnTo>
                <a:lnTo>
                  <a:pt x="36237" y="217424"/>
                </a:lnTo>
                <a:lnTo>
                  <a:pt x="18119" y="217424"/>
                </a:lnTo>
                <a:close/>
                <a:moveTo>
                  <a:pt x="45297" y="72475"/>
                </a:moveTo>
                <a:lnTo>
                  <a:pt x="1069497" y="72475"/>
                </a:lnTo>
                <a:lnTo>
                  <a:pt x="1069497" y="0"/>
                </a:lnTo>
                <a:lnTo>
                  <a:pt x="1214446" y="144949"/>
                </a:lnTo>
                <a:lnTo>
                  <a:pt x="1069497" y="289898"/>
                </a:lnTo>
                <a:lnTo>
                  <a:pt x="1069497" y="217424"/>
                </a:lnTo>
                <a:lnTo>
                  <a:pt x="45297" y="217424"/>
                </a:lnTo>
                <a:close/>
              </a:path>
            </a:pathLst>
          </a:custGeom>
          <a:solidFill>
            <a:srgbClr val="c0504d"/>
          </a:solidFill>
          <a:ln w="25560">
            <a:solidFill>
              <a:srgbClr val="af1d2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rId13" action="ppaction://hlinksldjump"/>
          </p:cNvPr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10800" y="4020"/>
                </a:moveTo>
                <a:lnTo>
                  <a:pt x="13376" y="6631"/>
                </a:ln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lnTo>
                  <a:pt x="17763" y="10982"/>
                </a:lnTo>
                <a:lnTo>
                  <a:pt x="16109" y="10982"/>
                </a:lnTo>
                <a:lnTo>
                  <a:pt x="16109" y="18172"/>
                </a:lnTo>
                <a:lnTo>
                  <a:pt x="5491" y="18172"/>
                </a:lnTo>
                <a:lnTo>
                  <a:pt x="5491" y="10982"/>
                </a:lnTo>
                <a:lnTo>
                  <a:pt x="3837" y="10982"/>
                </a:lnTo>
                <a:close/>
              </a:path>
              <a:path fill="darkenLess" w="21600" h="21965">
                <a:moveTo>
                  <a:pt x="13376" y="6631"/>
                </a:move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close/>
              </a:path>
              <a:path fill="darkenLess" w="21600" h="21965">
                <a:moveTo>
                  <a:pt x="9877" y="14481"/>
                </a:moveTo>
                <a:lnTo>
                  <a:pt x="11723" y="14481"/>
                </a:lnTo>
                <a:lnTo>
                  <a:pt x="11723" y="18172"/>
                </a:lnTo>
                <a:lnTo>
                  <a:pt x="16109" y="18172"/>
                </a:lnTo>
                <a:lnTo>
                  <a:pt x="16109" y="10982"/>
                </a:lnTo>
                <a:lnTo>
                  <a:pt x="5491" y="10982"/>
                </a:lnTo>
                <a:lnTo>
                  <a:pt x="5491" y="18172"/>
                </a:lnTo>
                <a:lnTo>
                  <a:pt x="9877" y="1817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Устройство мыши</a:t>
            </a: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0" t="0" r="52837" b="9669"/>
          <a:stretch/>
        </p:blipFill>
        <p:spPr>
          <a:xfrm>
            <a:off x="395280" y="1916280"/>
            <a:ext cx="3294000" cy="47307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137120" y="1916280"/>
            <a:ext cx="4670280" cy="47480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4067280" y="1773360"/>
            <a:ext cx="4608360" cy="4584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468360" y="1862280"/>
            <a:ext cx="3313080" cy="49957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10800" y="4020"/>
                </a:moveTo>
                <a:lnTo>
                  <a:pt x="13376" y="6631"/>
                </a:ln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lnTo>
                  <a:pt x="17763" y="10982"/>
                </a:lnTo>
                <a:lnTo>
                  <a:pt x="16109" y="10982"/>
                </a:lnTo>
                <a:lnTo>
                  <a:pt x="16109" y="18172"/>
                </a:lnTo>
                <a:lnTo>
                  <a:pt x="5491" y="18172"/>
                </a:lnTo>
                <a:lnTo>
                  <a:pt x="5491" y="10982"/>
                </a:lnTo>
                <a:lnTo>
                  <a:pt x="3837" y="10982"/>
                </a:lnTo>
                <a:close/>
              </a:path>
              <a:path fill="darkenLess" w="21600" h="21965">
                <a:moveTo>
                  <a:pt x="13376" y="6631"/>
                </a:move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close/>
              </a:path>
              <a:path fill="darkenLess" w="21600" h="21965">
                <a:moveTo>
                  <a:pt x="9877" y="14481"/>
                </a:moveTo>
                <a:lnTo>
                  <a:pt x="11723" y="14481"/>
                </a:lnTo>
                <a:lnTo>
                  <a:pt x="11723" y="18172"/>
                </a:lnTo>
                <a:lnTo>
                  <a:pt x="16109" y="18172"/>
                </a:lnTo>
                <a:lnTo>
                  <a:pt x="16109" y="10982"/>
                </a:lnTo>
                <a:lnTo>
                  <a:pt x="5491" y="10982"/>
                </a:lnTo>
                <a:lnTo>
                  <a:pt x="5491" y="18172"/>
                </a:lnTo>
                <a:lnTo>
                  <a:pt x="9877" y="1817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1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entury Gothic"/>
              </a:rPr>
              <a:t>Координатные устройства ввода</a:t>
            </a:r>
            <a:endParaRPr b="1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58" name="Picture 17" descr=""/>
          <p:cNvPicPr/>
          <p:nvPr/>
        </p:nvPicPr>
        <p:blipFill>
          <a:blip r:embed="rId1"/>
          <a:stretch/>
        </p:blipFill>
        <p:spPr>
          <a:xfrm>
            <a:off x="2771640" y="1844640"/>
            <a:ext cx="3816360" cy="33940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"/>
          <p:cNvSpPr/>
          <p:nvPr/>
        </p:nvSpPr>
        <p:spPr>
          <a:xfrm>
            <a:off x="3276720" y="162864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Трекбо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4869000"/>
            <a:ext cx="849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Трекбо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шаровой манипулятор, мышь «наизнанку») – вместо перемещения устройства по столу, в трекболе двигается шарик. Удобен в случаях, когда мало места. Широко используется в портативных компьютер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10800" y="4020"/>
                </a:moveTo>
                <a:lnTo>
                  <a:pt x="13376" y="6631"/>
                </a:ln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lnTo>
                  <a:pt x="17763" y="10982"/>
                </a:lnTo>
                <a:lnTo>
                  <a:pt x="16109" y="10982"/>
                </a:lnTo>
                <a:lnTo>
                  <a:pt x="16109" y="18172"/>
                </a:lnTo>
                <a:lnTo>
                  <a:pt x="5491" y="18172"/>
                </a:lnTo>
                <a:lnTo>
                  <a:pt x="5491" y="10982"/>
                </a:lnTo>
                <a:lnTo>
                  <a:pt x="3837" y="10982"/>
                </a:lnTo>
                <a:close/>
              </a:path>
              <a:path fill="darkenLess" w="21600" h="21965">
                <a:moveTo>
                  <a:pt x="13376" y="6631"/>
                </a:move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close/>
              </a:path>
              <a:path fill="darkenLess" w="21600" h="21965">
                <a:moveTo>
                  <a:pt x="9877" y="14481"/>
                </a:moveTo>
                <a:lnTo>
                  <a:pt x="11723" y="14481"/>
                </a:lnTo>
                <a:lnTo>
                  <a:pt x="11723" y="18172"/>
                </a:lnTo>
                <a:lnTo>
                  <a:pt x="16109" y="18172"/>
                </a:lnTo>
                <a:lnTo>
                  <a:pt x="16109" y="10982"/>
                </a:lnTo>
                <a:lnTo>
                  <a:pt x="5491" y="10982"/>
                </a:lnTo>
                <a:lnTo>
                  <a:pt x="5491" y="18172"/>
                </a:lnTo>
                <a:lnTo>
                  <a:pt x="9877" y="1817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50920" y="494172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меет вид обычного карандаша, на кончике которого расположено специальное устройство, позволяющее рисовать или писать на экране, как на листе бумаг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entury Gothic"/>
              </a:rPr>
              <a:t>Координатные устройства ввода</a:t>
            </a: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64" name="Picture 19" descr="планшет"/>
          <p:cNvPicPr/>
          <p:nvPr/>
        </p:nvPicPr>
        <p:blipFill>
          <a:blip r:embed="rId1"/>
          <a:stretch/>
        </p:blipFill>
        <p:spPr>
          <a:xfrm>
            <a:off x="971640" y="2349360"/>
            <a:ext cx="3360600" cy="24368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 rot="21380400">
            <a:off x="5148360" y="2492280"/>
            <a:ext cx="2662200" cy="2374920"/>
          </a:xfrm>
          <a:prstGeom prst="rect">
            <a:avLst/>
          </a:prstGeom>
          <a:ln w="0">
            <a:noFill/>
          </a:ln>
        </p:spPr>
      </p:pic>
      <p:sp>
        <p:nvSpPr>
          <p:cNvPr id="166" name="Содержимое 2"/>
          <p:cNvSpPr/>
          <p:nvPr/>
        </p:nvSpPr>
        <p:spPr>
          <a:xfrm>
            <a:off x="2268360" y="1628640"/>
            <a:ext cx="46087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Сетевое пер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3" action="ppaction://hlinksldjump"/>
          </p:cNvPr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10800" y="4020"/>
                </a:moveTo>
                <a:lnTo>
                  <a:pt x="13376" y="6631"/>
                </a:ln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lnTo>
                  <a:pt x="17763" y="10982"/>
                </a:lnTo>
                <a:lnTo>
                  <a:pt x="16109" y="10982"/>
                </a:lnTo>
                <a:lnTo>
                  <a:pt x="16109" y="18172"/>
                </a:lnTo>
                <a:lnTo>
                  <a:pt x="5491" y="18172"/>
                </a:lnTo>
                <a:lnTo>
                  <a:pt x="5491" y="10982"/>
                </a:lnTo>
                <a:lnTo>
                  <a:pt x="3837" y="10982"/>
                </a:lnTo>
                <a:close/>
              </a:path>
              <a:path fill="darkenLess" w="21600" h="21965">
                <a:moveTo>
                  <a:pt x="13376" y="6631"/>
                </a:move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close/>
              </a:path>
              <a:path fill="darkenLess" w="21600" h="21965">
                <a:moveTo>
                  <a:pt x="9877" y="14481"/>
                </a:moveTo>
                <a:lnTo>
                  <a:pt x="11723" y="14481"/>
                </a:lnTo>
                <a:lnTo>
                  <a:pt x="11723" y="18172"/>
                </a:lnTo>
                <a:lnTo>
                  <a:pt x="16109" y="18172"/>
                </a:lnTo>
                <a:lnTo>
                  <a:pt x="16109" y="10982"/>
                </a:lnTo>
                <a:lnTo>
                  <a:pt x="5491" y="10982"/>
                </a:lnTo>
                <a:lnTo>
                  <a:pt x="5491" y="18172"/>
                </a:lnTo>
                <a:lnTo>
                  <a:pt x="9877" y="1817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entury Gothic"/>
              </a:rPr>
              <a:t>Манипуляторы</a:t>
            </a:r>
            <a:endParaRPr b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69" name="Picture 11" descr=""/>
          <p:cNvPicPr/>
          <p:nvPr/>
        </p:nvPicPr>
        <p:blipFill>
          <a:blip r:embed="rId1"/>
          <a:stretch/>
        </p:blipFill>
        <p:spPr>
          <a:xfrm>
            <a:off x="857160" y="1857240"/>
            <a:ext cx="1536840" cy="1727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9" descr="рисунок6"/>
          <p:cNvPicPr/>
          <p:nvPr/>
        </p:nvPicPr>
        <p:blipFill>
          <a:blip r:embed="rId2"/>
          <a:stretch/>
        </p:blipFill>
        <p:spPr>
          <a:xfrm>
            <a:off x="3780000" y="2492280"/>
            <a:ext cx="2476440" cy="2105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3" descr=""/>
          <p:cNvPicPr/>
          <p:nvPr/>
        </p:nvPicPr>
        <p:blipFill>
          <a:blip r:embed="rId3"/>
          <a:stretch/>
        </p:blipFill>
        <p:spPr>
          <a:xfrm>
            <a:off x="6659640" y="3789360"/>
            <a:ext cx="2124000" cy="19526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4"/>
          <p:cNvSpPr/>
          <p:nvPr/>
        </p:nvSpPr>
        <p:spPr>
          <a:xfrm>
            <a:off x="3564000" y="4653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Геймп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6588000" y="580536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Руль с педа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0920" y="3789360"/>
            <a:ext cx="295272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Д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жойстик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— устройство-манипулятор для ввода информации о движениях р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4" action="ppaction://hlinksldjump"/>
          </p:cNvPr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10800" y="4020"/>
                </a:moveTo>
                <a:lnTo>
                  <a:pt x="13376" y="6631"/>
                </a:ln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lnTo>
                  <a:pt x="17763" y="10982"/>
                </a:lnTo>
                <a:lnTo>
                  <a:pt x="16109" y="10982"/>
                </a:lnTo>
                <a:lnTo>
                  <a:pt x="16109" y="18172"/>
                </a:lnTo>
                <a:lnTo>
                  <a:pt x="5491" y="18172"/>
                </a:lnTo>
                <a:lnTo>
                  <a:pt x="5491" y="10982"/>
                </a:lnTo>
                <a:lnTo>
                  <a:pt x="3837" y="10982"/>
                </a:lnTo>
                <a:close/>
              </a:path>
              <a:path fill="darkenLess" w="21600" h="21965">
                <a:moveTo>
                  <a:pt x="13376" y="6631"/>
                </a:moveTo>
                <a:lnTo>
                  <a:pt x="13376" y="4890"/>
                </a:lnTo>
                <a:lnTo>
                  <a:pt x="15152" y="4890"/>
                </a:lnTo>
                <a:lnTo>
                  <a:pt x="15152" y="8406"/>
                </a:lnTo>
                <a:close/>
              </a:path>
              <a:path fill="darkenLess" w="21600" h="21965">
                <a:moveTo>
                  <a:pt x="9877" y="14481"/>
                </a:moveTo>
                <a:lnTo>
                  <a:pt x="11723" y="14481"/>
                </a:lnTo>
                <a:lnTo>
                  <a:pt x="11723" y="18172"/>
                </a:lnTo>
                <a:lnTo>
                  <a:pt x="16109" y="18172"/>
                </a:lnTo>
                <a:lnTo>
                  <a:pt x="16109" y="10982"/>
                </a:lnTo>
                <a:lnTo>
                  <a:pt x="5491" y="10982"/>
                </a:lnTo>
                <a:lnTo>
                  <a:pt x="5491" y="18172"/>
                </a:lnTo>
                <a:lnTo>
                  <a:pt x="9877" y="1817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6:06:05Z</dcterms:created>
  <dc:creator>1</dc:creator>
  <dc:description/>
  <dc:language>en-US</dc:language>
  <cp:lastModifiedBy>Admin</cp:lastModifiedBy>
  <dcterms:modified xsi:type="dcterms:W3CDTF">2010-02-13T13:49:26Z</dcterms:modified>
  <cp:revision>33</cp:revision>
  <dc:subject/>
  <dc:title>Заголовок  презент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82481049</vt:lpwstr>
  </property>
</Properties>
</file>